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6AB4A-5E57-427D-99F5-23E822188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15A74-0655-49BA-84BC-3E92F53D8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ED70C-D0A0-468C-B947-725717875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01E0B-F8AE-4CFF-9688-8DF1E7A20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FD827-2B4E-4A24-937E-3D1012955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0DA4A-1029-4429-973A-5390D6730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3D940-63DA-4386-B085-367186814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25DD7-FFD8-4B6C-B126-163C4FC49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7FA2B-3527-4205-8A9F-CCBB04FAD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59408-0B2E-4F74-933B-C5F85E58A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CC479-D850-44F4-837E-4CFCE5C22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06644-4377-4D59-895F-AD6A14C87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E1768-53CA-4203-AE04-CEE65E9B1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4B1DA-7695-4437-8CAA-9D2D0EBB9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7DDC1-52A7-4285-9653-A0F01FDD7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9F0BA-1302-4DF4-B40B-0A9FD955B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C07E2-EAC3-4138-9609-9A3A19056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CFF4C-C3BA-47D3-83FE-4171A3D88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558F2-3A6E-4A72-8ADE-0CBF894F3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49953-A00D-4A86-A9AA-380D161D3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45830-26CA-47C9-8649-E0529E4E4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1969A-CF49-4680-9160-1EF29FFDB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DEAD1-4EA4-4BC1-B322-A7DEE160E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AE0A-A5F6-4EB4-9514-2E9ECDF31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3042-4E55-49C4-8C0D-A1E920821FD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F467-08F9-4AC7-B643-82AFFBB1FF3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4" name="" descr=""/>
          <p:cNvPicPr/>
          <p:nvPr/>
        </p:nvPicPr>
        <p:blipFill>
          <a:blip r:embed="rId1"/>
          <a:stretch/>
        </p:blipFill>
        <p:spPr>
          <a:xfrm>
            <a:off x="0" y="0"/>
            <a:ext cx="9144000" cy="6858000"/>
          </a:xfrm>
          <a:prstGeom prst="rect">
            <a:avLst/>
          </a:prstGeom>
          <a:ln w="0">
            <a:noFill/>
          </a:ln>
        </p:spPr>
      </p:pic>
      <p:sp>
        <p:nvSpPr>
          <p:cNvPr id="155" name=""/>
          <p:cNvSpPr/>
          <p:nvPr/>
        </p:nvSpPr>
        <p:spPr>
          <a:xfrm>
            <a:off x="3048120" y="0"/>
            <a:ext cx="42066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Brush Script MT"/>
              </a:rPr>
              <a:t>Ernest Hemingway</a:t>
            </a:r>
            <a:endParaRPr b="0" lang="en-US" sz="6000" spc="-1" strike="noStrike">
              <a:solidFill>
                <a:srgbClr val="ffffff"/>
              </a:solidFill>
              <a:latin typeface="Arial"/>
            </a:endParaRPr>
          </a:p>
        </p:txBody>
      </p:sp>
      <p:pic>
        <p:nvPicPr>
          <p:cNvPr id="156" name="" descr=""/>
          <p:cNvPicPr/>
          <p:nvPr/>
        </p:nvPicPr>
        <p:blipFill>
          <a:blip r:embed="rId2"/>
          <a:stretch/>
        </p:blipFill>
        <p:spPr>
          <a:xfrm>
            <a:off x="4724280" y="2133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133720" y="228600"/>
            <a:ext cx="5029200" cy="647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7" name="PlaceHolder 2"/>
          <p:cNvSpPr>
            <a:spLocks noGrp="1"/>
          </p:cNvSpPr>
          <p:nvPr>
            <p:ph/>
          </p:nvPr>
        </p:nvSpPr>
        <p:spPr>
          <a:xfrm>
            <a:off x="4419360" y="0"/>
            <a:ext cx="4724280" cy="6858000"/>
          </a:xfrm>
          <a:prstGeom prst="rect">
            <a:avLst/>
          </a:prstGeom>
          <a:noFill/>
          <a:ln w="0">
            <a:noFill/>
          </a:ln>
        </p:spPr>
        <p:txBody>
          <a:bodyPr lIns="90000" rIns="90000" tIns="46800" bIns="46800" anchor="t">
            <a:normAutofit fontScale="96000"/>
          </a:bodyPr>
          <a:p>
            <a:pPr marL="329040" indent="-329040">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Повоєнні роки Хемінгуей присвятив повністю літературі. І хоча основним його місцем проживання був Париж, він дуже багато подорожував, оскільки захоплювався гірськими лижами, полюванням і риболовлею. На початку 1930 року Хемінгуей повернувся до США і оселився в містечку Кі-Уест, Флорида. Тут він ловить велику рибу, подорожує на своїй яхті до Багамських островів, Куби, і пише нові оповідання.</a:t>
            </a:r>
            <a:endParaRPr b="0" lang="en-US" sz="2500" spc="-1" strike="noStrike">
              <a:solidFill>
                <a:srgbClr val="ffffff"/>
              </a:solidFill>
              <a:latin typeface="Tahoma"/>
            </a:endParaRPr>
          </a:p>
        </p:txBody>
      </p:sp>
      <p:pic>
        <p:nvPicPr>
          <p:cNvPr id="178" name="" descr=""/>
          <p:cNvPicPr/>
          <p:nvPr/>
        </p:nvPicPr>
        <p:blipFill>
          <a:blip r:embed="rId1"/>
          <a:stretch/>
        </p:blipFill>
        <p:spPr>
          <a:xfrm>
            <a:off x="228600" y="228600"/>
            <a:ext cx="4216320" cy="64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1" name="PlaceHolder 2"/>
          <p:cNvSpPr>
            <a:spLocks noGrp="1"/>
          </p:cNvSpPr>
          <p:nvPr>
            <p:ph/>
          </p:nvPr>
        </p:nvSpPr>
        <p:spPr>
          <a:xfrm>
            <a:off x="0" y="0"/>
            <a:ext cx="5029200" cy="68580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Хемінгуей тяжко переживав Громадянську війну в Іспанії в середині 1930-х років. Він навіть організував збір пожертвувань на користь республіканців, які боролись з генералом Франко. Враження від війни знайшли відбиття в іншому відомому романі - «По кому дзвонить дзвін», 1940. Цей роман багато критиків розглядають як кращу роботу письменника</a:t>
            </a:r>
            <a:endParaRPr b="0" lang="en-US" sz="2800" spc="-1" strike="noStrike">
              <a:solidFill>
                <a:srgbClr val="ffffff"/>
              </a:solidFill>
              <a:latin typeface="Tahoma"/>
            </a:endParaRPr>
          </a:p>
        </p:txBody>
      </p:sp>
      <p:pic>
        <p:nvPicPr>
          <p:cNvPr id="182" name="" descr=""/>
          <p:cNvPicPr/>
          <p:nvPr/>
        </p:nvPicPr>
        <p:blipFill>
          <a:blip r:embed="rId1"/>
          <a:stretch/>
        </p:blipFill>
        <p:spPr>
          <a:xfrm>
            <a:off x="5029200" y="152280"/>
            <a:ext cx="3962520" cy="655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4" name="PlaceHolder 2"/>
          <p:cNvSpPr>
            <a:spLocks noGrp="1"/>
          </p:cNvSpPr>
          <p:nvPr>
            <p:ph/>
          </p:nvPr>
        </p:nvSpPr>
        <p:spPr>
          <a:xfrm>
            <a:off x="0" y="0"/>
            <a:ext cx="5562720" cy="685800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ahoma"/>
              </a:rPr>
              <a:t>Справа в тому, що військова тема була однією з найулюбленіших в творчості Хемінгуея. З початком Другої світової війни він відновив свою журналістську діяльність, переїхавши до Лондона як кореспондент. А перед цим в 1941-1943 роках Ернест організовує контррозвідку проти фашистських шпигунів на Кубі і полює на своєму катері «Пілар» за німецькими підводними човнами в Карибському морі. У 1944 році Хемінгуей бере участь у бойових польоти бомбардувальників над Німеччиною і Францією окупованій. А під час висадки союзників у Нормандії домагається дозволу брати участь у бойових і розвідувальних діях. Ернест встає на чолі загону французьких партизанів чисельністю близько 200 чоловік і бере участь у боях за Париж, Бельгії, Ельзас, бере участь у прориві «лінії Зігфріда», часто виявляється на передовій попереду основних військ.</a:t>
            </a:r>
            <a:endParaRPr b="0" lang="en-US" sz="2100" spc="-1" strike="noStrike">
              <a:solidFill>
                <a:srgbClr val="ffffff"/>
              </a:solidFill>
              <a:latin typeface="Tahoma"/>
            </a:endParaRPr>
          </a:p>
        </p:txBody>
      </p:sp>
      <p:pic>
        <p:nvPicPr>
          <p:cNvPr id="185" name="" descr=""/>
          <p:cNvPicPr/>
          <p:nvPr/>
        </p:nvPicPr>
        <p:blipFill>
          <a:blip r:embed="rId1"/>
          <a:stretch/>
        </p:blipFill>
        <p:spPr>
          <a:xfrm>
            <a:off x="5410080" y="228600"/>
            <a:ext cx="3581640" cy="647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8" name="PlaceHolder 2"/>
          <p:cNvSpPr>
            <a:spLocks noGrp="1"/>
          </p:cNvSpPr>
          <p:nvPr>
            <p:ph/>
          </p:nvPr>
        </p:nvSpPr>
        <p:spPr>
          <a:xfrm>
            <a:off x="3962160" y="0"/>
            <a:ext cx="5181480" cy="68580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У 1949 році письменник переїхав на Кубу, де відновив літературну діяльність. Яскравим прикладом його творчості в цей час є повість «Старий і море» 1952. Книга говорить про героїчний і приреченому протистоянні силам природи, про людину, яка самотній в світі, де йому залишається розраховувати тільки на власну впертість, стикаючись з одвічної несправедливістю долі. Алегоричне розповідь про старого рибалку, що бореться з акулами, які розірвали спійману їм величезну рибу, зазначено рисами, найбільш характерними для Хемінгуея як художника: неприязню до інтелектуальної вишуканості, прихильності ситуацій, в яких наочно виявляються моральні цінності, скупого психологічному малюнку.</a:t>
            </a:r>
            <a:endParaRPr b="0" lang="en-US" sz="2200" spc="-1" strike="noStrike">
              <a:solidFill>
                <a:srgbClr val="ffffff"/>
              </a:solidFill>
              <a:latin typeface="Tahoma"/>
            </a:endParaRPr>
          </a:p>
        </p:txBody>
      </p:sp>
      <p:pic>
        <p:nvPicPr>
          <p:cNvPr id="189" name="" descr=""/>
          <p:cNvPicPr/>
          <p:nvPr/>
        </p:nvPicPr>
        <p:blipFill>
          <a:blip r:embed="rId1"/>
          <a:stretch/>
        </p:blipFill>
        <p:spPr>
          <a:xfrm>
            <a:off x="152280" y="152280"/>
            <a:ext cx="419112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88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2" name="PlaceHolder 2"/>
          <p:cNvSpPr>
            <a:spLocks noGrp="1"/>
          </p:cNvSpPr>
          <p:nvPr>
            <p:ph/>
          </p:nvPr>
        </p:nvSpPr>
        <p:spPr>
          <a:xfrm>
            <a:off x="-360" y="0"/>
            <a:ext cx="5181480" cy="68580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Хемінгуей страждав від низки серйозних фізичних захворювань, у тому числі від гіпертонії і діабету, однак для «лікування» був поміщений до психіатричної клініки Майо, де психіатр ігнорував ці очевидні фактори і займався тільки «психічними розладами», якими Хемінгуея «нагородили» його колеги. Як лікування застосовувалася електросудорожну терапія. Ось що сказав про це сам Хемінгуей: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Ці лікарі, що робили мені електрошок, письменників не розуміють ... Хай би всі психіатри Походила писати художні твори, щоб зрозуміти, що означає бути письменником ... який був сенс у тому, щоб руйнувати мій мозок і прати мою пам'ять, яка являє собою мій капітал і викидати мене на узбіччя життя?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липня 1961 в своєму будинку в Кетчум, через кілька днів після виписки з психіатричної клініки Майо, Хемінгуей застрелився з улюбленого рушниці, не залишивши передсмертної записки.</a:t>
            </a:r>
            <a:endParaRPr b="0" lang="en-US" sz="2000" spc="-1" strike="noStrike">
              <a:solidFill>
                <a:srgbClr val="ffffff"/>
              </a:solidFill>
              <a:latin typeface="Tahoma"/>
            </a:endParaRPr>
          </a:p>
        </p:txBody>
      </p:sp>
      <p:pic>
        <p:nvPicPr>
          <p:cNvPr id="193" name="" descr=""/>
          <p:cNvPicPr/>
          <p:nvPr/>
        </p:nvPicPr>
        <p:blipFill>
          <a:blip r:embed="rId1"/>
          <a:stretch/>
        </p:blipFill>
        <p:spPr>
          <a:xfrm>
            <a:off x="5181480" y="228600"/>
            <a:ext cx="381024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685800" y="533520"/>
            <a:ext cx="2857680" cy="3809880"/>
          </a:xfrm>
          <a:prstGeom prst="rect">
            <a:avLst/>
          </a:prstGeom>
          <a:ln w="0">
            <a:noFill/>
          </a:ln>
        </p:spPr>
      </p:pic>
      <p:sp>
        <p:nvSpPr>
          <p:cNvPr id="195" name=""/>
          <p:cNvSpPr/>
          <p:nvPr/>
        </p:nvSpPr>
        <p:spPr>
          <a:xfrm>
            <a:off x="6731280" y="5181480"/>
            <a:ext cx="236016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Monotype Corsiva"/>
              </a:rPr>
              <a:t>Підготувал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Monotype Corsiva"/>
              </a:rPr>
              <a:t>Неліна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Monotype Corsiva"/>
              </a:rPr>
              <a:t>Вікторі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58" name="PlaceHolder 2"/>
          <p:cNvSpPr>
            <a:spLocks noGrp="1"/>
          </p:cNvSpPr>
          <p:nvPr>
            <p:ph/>
          </p:nvPr>
        </p:nvSpPr>
        <p:spPr>
          <a:xfrm>
            <a:off x="228240" y="456840"/>
            <a:ext cx="3962520" cy="5334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ru-RU" sz="3200" spc="-1" strike="noStrike">
                <a:solidFill>
                  <a:srgbClr val="ffffff"/>
                </a:solidFill>
                <a:latin typeface="Tahoma"/>
              </a:rPr>
              <a:t>Ернест Міллер</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Хемінгуей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899-1961) американський письменник. Лауреат Нобелівської премії з літератури (1954).</a:t>
            </a:r>
            <a:endParaRPr b="0" lang="en-US" sz="3200" spc="-1" strike="noStrike">
              <a:solidFill>
                <a:srgbClr val="ffffff"/>
              </a:solidFill>
              <a:latin typeface="Tahoma"/>
            </a:endParaRPr>
          </a:p>
        </p:txBody>
      </p:sp>
      <p:pic>
        <p:nvPicPr>
          <p:cNvPr id="159" name="" descr=""/>
          <p:cNvPicPr/>
          <p:nvPr/>
        </p:nvPicPr>
        <p:blipFill>
          <a:blip r:embed="rId1"/>
          <a:stretch/>
        </p:blipFill>
        <p:spPr>
          <a:xfrm>
            <a:off x="4419720" y="228600"/>
            <a:ext cx="45720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6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62" name="PlaceHolder 2"/>
          <p:cNvSpPr>
            <a:spLocks noGrp="1"/>
          </p:cNvSpPr>
          <p:nvPr>
            <p:ph/>
          </p:nvPr>
        </p:nvSpPr>
        <p:spPr>
          <a:xfrm>
            <a:off x="0" y="0"/>
            <a:ext cx="5029200" cy="6858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рнест Хемінгуей народився 21 липня 1899 року в привілейованому передмісті Чикаго - містечку Оук-Парк, штат Іллінойс, США. Його батько, Кларенс Едмонта Хемінгуей (1871-1928), був лікарем, а мати, Грейс Холл (1872-1951), присвятила життя вихованню дітей. У сім'ї, де, крім нього ще було 5 </a:t>
            </a:r>
            <a:r>
              <a:rPr b="0" lang="uk-UA" sz="2000" spc="-1" strike="noStrike">
                <a:solidFill>
                  <a:srgbClr val="ffffff"/>
                </a:solidFill>
                <a:latin typeface="Tahoma"/>
              </a:rPr>
              <a:t>дітей. </a:t>
            </a:r>
            <a:r>
              <a:rPr b="0" lang="ru-RU" sz="2000" spc="-1" strike="noStrike">
                <a:solidFill>
                  <a:srgbClr val="ffffff"/>
                </a:solidFill>
                <a:latin typeface="Tahoma"/>
              </a:rPr>
              <a:t>Улюбленими заняттями в дитинстві були читання книг, рибалка і полювання, любов до яких Хемінгуею прищепив батько. Через багато років, дитячі враження і переживання будуть передані в оповіданнях про Ніка Адамса - alter ego Ернеста. Будучи від природи здоровим і сильним юнаком, Хемінгуей активно займався боксом і футболом. Літературне покликання з'явилось ще в шкільні роки, де він дебютував у невеликій шкільній газеті. В основному це репортажі про спортивні змагання, концерти.</a:t>
            </a:r>
            <a:endParaRPr b="0" lang="en-US" sz="2000" spc="-1" strike="noStrike">
              <a:solidFill>
                <a:srgbClr val="ffffff"/>
              </a:solidFill>
              <a:latin typeface="Tahoma"/>
            </a:endParaRPr>
          </a:p>
        </p:txBody>
      </p:sp>
      <p:pic>
        <p:nvPicPr>
          <p:cNvPr id="163" name="" descr=""/>
          <p:cNvPicPr/>
          <p:nvPr/>
        </p:nvPicPr>
        <p:blipFill>
          <a:blip r:embed="rId1"/>
          <a:stretch/>
        </p:blipFill>
        <p:spPr>
          <a:xfrm>
            <a:off x="4952880" y="380880"/>
            <a:ext cx="3962520" cy="624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8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66" name="PlaceHolder 2"/>
          <p:cNvSpPr>
            <a:spLocks noGrp="1"/>
          </p:cNvSpPr>
          <p:nvPr>
            <p:ph/>
          </p:nvPr>
        </p:nvSpPr>
        <p:spPr>
          <a:xfrm>
            <a:off x="0" y="-360"/>
            <a:ext cx="4952880" cy="670572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літку 1916 року, після шкільних занять Ернест, прагнучи завоювати незалежність від батьків, вирушає з приятелем у самостійну подорож до Північного Мічиган. Там він переживає масу вражень, які пізніше увійдуть до багатьох творів письменника. Після випуску зі школи він вирішив не вступати до університету, як того вимагали батьки, а переїхав у Канзас-Сіті, де влаштувався працювати в місцеву газету «Star». Тут сформувався його літературний стиль і звичка бути завжди в центрі подій. Працювати довелося поліцейським репортером - Ернест знайомився з кублами, стикався з повіями, найманими вбивцями.</a:t>
            </a:r>
            <a:endParaRPr b="0" lang="en-US" sz="2200" spc="-1" strike="noStrike">
              <a:solidFill>
                <a:srgbClr val="ffffff"/>
              </a:solidFill>
              <a:latin typeface="Tahoma"/>
            </a:endParaRPr>
          </a:p>
        </p:txBody>
      </p:sp>
      <p:pic>
        <p:nvPicPr>
          <p:cNvPr id="167" name="" descr=""/>
          <p:cNvPicPr/>
          <p:nvPr/>
        </p:nvPicPr>
        <p:blipFill>
          <a:blip r:embed="rId1"/>
          <a:stretch/>
        </p:blipFill>
        <p:spPr>
          <a:xfrm>
            <a:off x="4952880" y="228600"/>
            <a:ext cx="4038840" cy="647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0" name="PlaceHolder 2"/>
          <p:cNvSpPr>
            <a:spLocks noGrp="1"/>
          </p:cNvSpPr>
          <p:nvPr>
            <p:ph/>
          </p:nvPr>
        </p:nvSpPr>
        <p:spPr>
          <a:xfrm>
            <a:off x="4114800" y="151920"/>
            <a:ext cx="5029200" cy="6705720"/>
          </a:xfrm>
          <a:prstGeom prst="rect">
            <a:avLst/>
          </a:prstGeom>
          <a:noFill/>
          <a:ln w="0">
            <a:noFill/>
          </a:ln>
        </p:spPr>
        <p:txBody>
          <a:bodyPr lIns="90000" rIns="90000" tIns="46800" bIns="46800" anchor="t">
            <a:normAutofit fontScale="97000"/>
          </a:bodyPr>
          <a:p>
            <a:pPr marL="332640" indent="-332640">
              <a:lnSpc>
                <a:spcPct val="9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Хемінгуей дуже хотів служити в армії, однак через поганий зір йому відмовляли. Але він все-таки зумів потрапити на Першу світову війну в Італію, влаштувавшись шофером Червоного Хреста. 8 липня 1918 він був поранений на австро-італійському фронті, під Фоссальта-ді-П'яве. У січні 1919 року Ернест повернувся до США героєм - про нього писали всі центральні газети як про перші американця, пораненим на італійському фронті. Король Італії нагородив його срібною медаллю «За доблесть» і «Військовим хрестом».</a:t>
            </a:r>
            <a:endParaRPr b="0" lang="en-US" sz="2500" spc="-1" strike="noStrike">
              <a:solidFill>
                <a:srgbClr val="ffffff"/>
              </a:solidFill>
              <a:latin typeface="Tahoma"/>
            </a:endParaRPr>
          </a:p>
        </p:txBody>
      </p:sp>
      <p:pic>
        <p:nvPicPr>
          <p:cNvPr id="171" name="" descr=""/>
          <p:cNvPicPr/>
          <p:nvPr/>
        </p:nvPicPr>
        <p:blipFill>
          <a:blip r:embed="rId1"/>
          <a:stretch/>
        </p:blipFill>
        <p:spPr>
          <a:xfrm>
            <a:off x="168120" y="152280"/>
            <a:ext cx="3946680" cy="670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3" name="PlaceHolder 2"/>
          <p:cNvSpPr>
            <a:spLocks noGrp="1"/>
          </p:cNvSpPr>
          <p:nvPr>
            <p:ph/>
          </p:nvPr>
        </p:nvSpPr>
        <p:spPr>
          <a:xfrm>
            <a:off x="0" y="0"/>
            <a:ext cx="4952880" cy="6858000"/>
          </a:xfrm>
          <a:prstGeom prst="rect">
            <a:avLst/>
          </a:prstGeom>
          <a:noFill/>
          <a:ln w="0">
            <a:noFill/>
          </a:ln>
        </p:spPr>
        <p:txBody>
          <a:bodyPr lIns="90000" rIns="90000" tIns="46800" bIns="46800" anchor="t">
            <a:normAutofit fontScale="96000"/>
          </a:bodyPr>
          <a:p>
            <a:pPr marL="329040" indent="-329040">
              <a:lnSpc>
                <a:spcPct val="8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Після війни Ернест Хемінгуей відновив літературні експерименти, працюючи журналістом в Чикаго і Торонто. Тоді ж він одружився на своїй першій дружині - Хедлі Річардсон (1891-1979). У 1921 році Ернест відправляється кореспондентом в Париж від газети «Toronto Star», на умовах повної самостійності при виборі матеріалу для роботи. Вони з дружиною багато гуляли по місту, знайомилися з такими літературними корифеями, як Ф. С. Фітцджеральд, Г. Стейн і Езра Паунд, які дуже добре відгукувалися про здібності молодого Ернеста</a:t>
            </a:r>
            <a:endParaRPr b="0" lang="en-US" sz="2600" spc="-1" strike="noStrike">
              <a:solidFill>
                <a:srgbClr val="ffffff"/>
              </a:solidFill>
              <a:latin typeface="Tahoma"/>
            </a:endParaRPr>
          </a:p>
        </p:txBody>
      </p:sp>
      <p:pic>
        <p:nvPicPr>
          <p:cNvPr id="174" name="" descr=""/>
          <p:cNvPicPr/>
          <p:nvPr/>
        </p:nvPicPr>
        <p:blipFill>
          <a:blip r:embed="rId1"/>
          <a:stretch/>
        </p:blipFill>
        <p:spPr>
          <a:xfrm>
            <a:off x="5105520" y="152280"/>
            <a:ext cx="388620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ver</cp:lastModifiedBy>
  <dcterms:modified xsi:type="dcterms:W3CDTF">2010-03-09T22:0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