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739-37C5-4A79-AF67-4A850905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2DC-B8A8-4798-8AA2-217831B8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E45-B6FA-4968-905D-30C9EA56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22A-3B02-4652-9FF0-88737201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3BAA-071B-4F19-BF39-E706496B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6353-2E50-45CA-A991-BFB27148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3E5C-2149-43CF-84E2-20E6CBE8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DFF8-B829-4F10-975B-3CB491DD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A8D2-245A-4CAE-900D-F9F35760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628F-7F47-4B77-B01B-B3DF6C90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02A6-ED10-4045-BB3B-16615F7D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DBD-3582-4865-8CB7-40FC4EC1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E0B3-2542-42A8-AC93-BD0FB040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F1EB-280F-43A5-855F-BE992549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AE46-41F5-4FBC-91C9-2B6E252D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5C1E-D97D-4A3A-B214-6B13BF4F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8510-EE0A-46FC-A793-854C15B4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418-835B-4EF2-9556-3EF27787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EA8-0119-44AD-B8C4-90521D71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98F-528C-4B69-8B0A-BEA6894A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27B-104D-43F3-A186-C41947DC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950-4F65-4274-A9C2-4E89698C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F09-77C1-448E-9A81-9BC4ECED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D4A-A123-4D84-93B7-8795BE91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A144-305E-4628-B4DA-555E33E58DF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2C07-13D7-4CB1-AF28-72932FB04CB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500" spc="-1" strike="noStrike">
                <a:solidFill>
                  <a:srgbClr val="b2b2b2"/>
                </a:solidFill>
                <a:latin typeface="Monotype Corsiva"/>
              </a:rPr>
              <a:t>Альбер Камю</a:t>
            </a:r>
            <a:endParaRPr b="0" lang="en-US" sz="10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Monotype Corsiva"/>
              </a:rPr>
              <a:t>Життєвий та творчий шля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Бунт проти зл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роблематика "Калигулы" має точки дотику з "Навкруги Бунта" (другий етап творчості), куди ввійшли роман "Чума" (1947), п'єси "Облогове положення" (1948) і "Праведні" (1949), а також філософський трактат " людина, Що Бунтує," (1951). У цих добутках чільним стає усвідомлення боргу перед "іншими": від констатації безглуздості існування Камю переходить до аналізу поводження людини, що повстає проти зла, універсальним символом якого є чума. У романі хвороба з'являється як нещастя, що раптово осягло жителів маленького містечка Оран в Алжиру. В ізольованому від світу співтоваристві розкриваються характери людей, що живуть під погрозою болісної смерті: одні знаходять себе в боротьбі з хворобою і безстрашно виконують свій борг, інші думають лише про власну  чи вигоду безвольно скоряються долі. У "Облоговому положенні" Чуму уособлює унтер-офіцер у чорному мундирі: за допомогою секретарки-смерті він перетворює середньовічне місто в концтабір новітнього типу. П'єса написана за зразком іспанських ауто і французьких містерій, звідси свідома умовність часу дії і розв'язки: правлінню Чуми приходить кінець, як тільки знаходиться людина, що переборола страх перед смертю, і його жертви досить для звільнення співгромадян. Інакше розкривається тема бунта в останній п'єсі Камю. Історична основа "Праведних" - убивство великого князя Сергія Олександровича, організоване в 1905 групою Б. Савинко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5148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Камю спеціально вивчав російський тероризм - ці матеріали він використовував у нарисі "Делікатні убивці" (1948) і в трактаті " людина, Що Бунтує," - однак у п'єсі прагнула усунути реальні прикмети часу. Проблема революційної етики поставлена в плані споконвічного антагонізму мети і засобів: герої "Праведних" в ім'я волі готові зазіхнути на життя людини. Вихід із протиріччя драматург знаходить у позиції центрального персонажа: за життя великого князя він віддає власну і сприймає смертний вирок як спокута, оскільки відкидає тиранію "революційної користі", яке можна виправдати будь-яке насильство, безчестя і навіть особиста вигода. Філософське осмислення цієї колізії дано в трактаті " людина, Що Бунтує,", де Камю чітко формулює, що "абсолютне заперечення" веде до вседозволеності і злочинів. Протиставлення "бунта" (споконвічно властивій людині) і "революції" (небезпечної утопії, що веде до нових форм гноблення) викликало обурення "лівої" критики: найбільш різкі оцінки належать Сартру, що назвав колишнього друга "буржуа" - найстрашніша  образа для французького інтелектуала того рокі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92720" y="549360"/>
            <a:ext cx="3672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Безжалісний самоаналіз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36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До найбільш значних добутків третього "кола" відносяться роман "Падіння" (1956) і збірник новел "Вигнання і царство" (1957). У романі Камю фактично зводить рахівницю з екзистенціалізмом, показуючи "помилкового пророка", що спочатку був цілком урівноваженим міщанином, потім відчув себе "абсурдним героєм" і переконався  , що "неба ні", а на третій стадії розвитку усвідомив егоїстичну сутність своєї "гуманності", що служила йому лише для догоджання власних примх. У новелах Камю зробив спробу примирити потреба в абсолютній волі з тяжкою необхідністю існувати в реальному світі: його герої - самотні "вигнанці" у житті - спрямовуються до моря і зірок як до вічних символів крас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агинув 4 січня 1960 в автомобільній катастрофі біля Вильблевена (Франція), направляючи на зустріч з акторкою Марією Казаре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08720" y="1052640"/>
            <a:ext cx="3527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Портрет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24360" y="475920"/>
            <a:ext cx="52563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КАМЮ (Camus) Альбер (1913-60), французький письменник і мислитель-екзистенціаліст. Учасник Руху Опору. У повісті "Сторонній" (1942) тема "абсурдності" життя, що розкривається в потоці свідомості внутрішньо спустошеного героя ( повість за назвою "Незнайомець" була блискуче переведена на російську мову Г. В. Адамовичем ). У романі-притчі "Чуму" (1947; антифашистський, анти тоталітаристський) вища мужність людини - у боротьбі з безглуздістю буття. У філософській книзі "Міф про Сізіфа" (1942), " людина, Що Бунтує," (1951), п'єсах ("Калигула", 1944) затверджується воля морального вибору. Повість "Падіння" (1956). Публіцистика: "Злободенні замітки" (книги 1-3, 1950-58). Нобелівська премія (1957). Загинув в автомобільній катастроф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959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Тривожна молодість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4932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Батько Альбера був сільськогосподарським робітником, уродженцем Ельзасу. Після його загибелі в битві під Марне родина сильно бідувала. Спогаду про проведений у нестатку дитинстві відбилися в перших книгах Камю - збірниках ліричних нарисів "Виворіт і обличчя" (1937) і "Одруження" (1939). У долі майбутнього письменника велику роль зіграла хвороба: до 1930, коли в нього був виявлений туберкульоз, він вів активний спосіб життя і був запеклим спортсменом. Надійшовши на філософський факультет Алжирського університету (1933-1936), Камю почав співробітничати в газетах лівого напрямку, а в 1936 організував пересувний "Театр ДЮ Травай" ("Театр Праці"), у якому виступав як актор і режисер. У 1935-1937 Велике значення для формування молодого літератора мав так називаний "средиземноморский міф" - програма відродження природної людини, "язичника" і "варвара", що відкидає мертву цивілізацію "вогкої" Європ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981000"/>
            <a:ext cx="3816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Герой і філосо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11280" y="981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У 1940 письменник переїхав у Францію і в роки німецької окупації став співробітником підпільної газети "Комба", що після звільнення очолив (до 1947). Саме в цій газеті в 1943 з'явилися знамениті "Листи німецькому другу", перейняті пафосом твердження споконвічних моральних цінностей - розуму, істини, справедливості, честі. У 1950-і роки Камю прагнув дистанціюватися від будь-яких "партійних" пристрастей, що привело, зокрема , до полеміки і сварки з одним з найвизначніших представників французького екзистенціалізму - Ж. П. Сарт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816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Абсурдистский етап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57600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амю виділяв у своїй творчості три етапи, що назвав "колами". У перший з них - "Коло Абсурду" - він уключив роман "Сторонній" (1942), філософське есе "Міф про Сізіфа" (1942), п'єси "Непорозуміння" (1944) і "Калигула" (1944). Філософську основу цих добутків складає экзистенциалистское твердження абсурдності буття і непізнаваності світу. Спочатку Камю сповідав концепцію "романтичного екзистенціалізму", що виразив у формулі "абсурд панує, рятує любов". Героєм абсурду став для Камю легендарний Сізіф, що усвідомить, що праця його безцільна, але доблесно виконуюче своє призначення. У романі "Сторонній" центральний персонаж намагається створити для себе деякий оазис безпосередньо-почуттєвого існування, де людина залишається наодинці з природою і своїми інстинктами. Це приведе до безглуздого убивства, суду і страти, що злочинець вважає несправедливої: з його погляду , суспільство мстить йому скоріше за те, що він не плакав на похорон матері. У драматургії Камю віддавав перевагу відомим сюжетам, прагнучи виявити "загальнолюдську" значимість кожної конкретної події. В основу "Непорозуміння" покладена фольклорна ситуація: рідні не довідаються й убивають людини, що вернулись додому після довгої відсутності. "Непорозуміння в готелі" служить у п'єсі доказом трагічної самітності людей: мати і дочка протягом  багатьох літ грабують багатих постояльців, підсипаючи їм снодійне, і черговою жертвою стає їхній син і бра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15920"/>
            <a:ext cx="500364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южет "Калигулы" запозичений з "Життя дванадцяти цезарів" Светония, де зображений маніяк на троні, що ушкодився в розумі після смерті своєї сестри-коханки і загиблий під кинджалами змовників. Камю досить близько випливає за римським істориком, але інтерпретує факти інакше. Калигула в п'єсі - убивця по переконанню. Усвідомивши неминучість смерті, він проводить своєрідний "педагогічний експеримент": його піддані повинні зрозуміти абсурдність долі всіх живучих. Над сюжетом "Калигулы" драматург працював з 1937, називаючи свою п'єсу "трагедією щасливої людини": у центрі уваги була особиста драма імператора, а його злочини розглядалися як титанічний виклик людям і богам. Війна внесла корективи в цей задум: Камю переробив п'єсу, значно підсиливши тему опору тирані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76720" y="620640"/>
            <a:ext cx="4067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03:52Z</dcterms:created>
  <dc:creator>Алифтина</dc:creator>
  <dc:description/>
  <dc:language>en-US</dc:language>
  <cp:lastModifiedBy>Zver</cp:lastModifiedBy>
  <dcterms:modified xsi:type="dcterms:W3CDTF">2010-02-16T18:34:58Z</dcterms:modified>
  <cp:revision>11</cp:revision>
  <dc:subject/>
  <dc:title>Слайд 1</dc:title>
</cp:coreProperties>
</file>