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4B6-60D6-4951-A766-7DE4B0A2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FBB-25FB-4238-99DD-7C2FFED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841-22F0-4AC7-A017-69115323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774-583A-46ED-95A1-0E54AD68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E42-0CC4-4928-AC5F-BF484396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78B6-D553-429B-BEF5-DF6A1405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3C1E-A81F-48CB-BE61-2DC50F6B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5687-825F-47AF-9BE9-069B041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E2D3-8252-41AE-B24F-8174147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33DB-6044-44C8-81E7-3D12C13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100-A6A3-48B8-AC37-68F486F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79A-9E5F-4151-A624-F39260AD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40CF-C145-40E2-B43F-A820958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DD53-A387-455C-968F-165BADA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662-9FBE-4D21-B58D-0D6857A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5AB-2CF8-4C2B-A1B8-8197A12C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D64-FDB9-4C1E-A2CF-71F7BC65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8AF9-103B-4B45-B289-85986E55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B894-2CD5-4B78-A79A-52FE0C64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8AE5-680E-4834-AA13-8D2BD57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3288-5E15-4F17-8849-C68BB4A2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DA87-7280-4E9C-A675-4EA90AE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1C4-4ED4-418D-9672-72834E4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8D83-EA25-438E-AAF5-AACBF6E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D055-8AF1-4415-88D0-AC6BFDA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7389-8BB0-4497-8DE4-24C818D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E458-9207-4245-B134-BBD71D80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DB24-F9AA-4466-B4CF-54D1869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4966-FCA3-4D22-8AF6-B79EA3EC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AFAD-0F17-4B97-BC01-B72C81F0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FDA6-6835-4A01-ABA9-C1187362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A6D8-2583-4BA5-A7F9-0E4825D5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1BED-0138-4792-A0E1-39CBC0E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C69-D83A-41A9-8E04-04A613D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EAA7-02F8-4162-84B8-C0F0D14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C05E-6A9F-479C-8EF5-833E73A5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4BB5-993C-4756-8822-EB53FC7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45ED-9337-4672-B36E-A46DAD5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07A8-1359-43EB-9068-B93CB87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DAB5-36F7-4A26-BA5D-2AC8CCE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4FAE-6C2C-427A-96DF-136D2067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F83A-481E-4152-96A1-6E61B727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170B-50C8-4E55-8059-29443562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06E-3F48-4206-9570-D2A4A79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A9D-9F8A-4FCC-BA90-E1FD92E2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B8D-17FD-4478-94DA-CAEE8D5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8B8-1DFF-4538-BF5F-F2F87A5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7AC-4D39-4F93-A6AD-E007019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1DE-9274-4287-9745-ECEDBB0B83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096-B4C3-4C15-AE83-0764B51AA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3CE7-F3E3-4219-9B02-5C1E8A051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3BF-D91C-4577-A792-21BA3328F3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9966"/>
                </a:solidFill>
                <a:latin typeface="Times New Roman"/>
              </a:rPr>
              <a:t>Презентація на тему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4660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Роман “Анна Кареніна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708-ii_largo_appassionato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Художні особливості</a:t>
            </a:r>
            <a:br>
              <a:rPr sz="4400"/>
            </a:b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ними художніми особливостями роману є повтори ситуацій та образів, які прогнозують розвиток подій. В епізоді знайомства Анни та Олексія Вронського на залізничному вокзалі гине зчіплювач вагонів. На залізничній станції відбувається й освічення Вронського до Анни. Образ залізниці співвідноситься в романі з мотивами пристрасті, смертельної загрози. Смерть Кареніної і провина Вронського провіщуються на перегонах,де Олексій через незграбність ламає хребет своїй кобилі. Символічного значення набуває й сон Анни, в якому вона бачить чоловіка,що працює з залізом, він нагадує образ залізничних службовців та овіяний загрозою і смерт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«Анні Кареніній» Толстой неодноразово використовує прийом внутрішнього монологу, хаотичних спостережень, вражень від навколишнього світу та думок героїні. У «Анні Кареніній» сюжет і фабула не збігаються. Принцип концентричного розташування сюжетних кіл − характерна для Толстого форма виявлення внутрішньої єдності «широкого і вільного роману». Глави роману розташовані циклами, між якими існує тісний зв'язок і в тематичному, і в сюжетному планах. Кожна частина роману має свій «вузол ідеї». Опорними пунктами композиції є сюжетно-тематичні центри, які послідовно змінють один одног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561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960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851280" cy="6021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612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39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4067280" y="2708280"/>
            <a:ext cx="5076720" cy="41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Презентацію підготувал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учениця 10 клас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Черненко Люб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00720" y="565200"/>
            <a:ext cx="431928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«Анна Карені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—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й роман Льва Толстого, завершений 1877 року (опубліковано в 1876—1877 роках).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60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83664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Сюжет</a:t>
            </a:r>
            <a:br>
              <a:rPr sz="4000"/>
            </a:b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7058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ий конфлікт роману розвивається на прикладі кількох сімейних пар: Анна − Каренін, Доллі − Облонський, Кіті − Левін. У всіх випадках автор так і не знаходить відповіді на хвилюючі його питання: як живе людина в сім'ї і в суспільстві, чи можна обмежитися тільки рамками сім'ї? У чому секрет людського щаст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ловна героїня роману, Анна Кареніна—людина розумна та чесна, але її образ пов'язаний з обманом і зрадою. Сенс її життя—власне щастя. Обранцем Анни стає Олексій Вронський-представник петербурзької інтелігенції. Чоловік Анни, високопоставлений чиновник,який на перший погляд видається бездушним і черствим, але насправді здатний до високих почутт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47380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771640" y="5949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нна Карен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на картин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Манизер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 сюжетні лінії, які складають канву роману мають схожі та відмінні риси. Анна обирає кохання, руйнуючи родину. Дар'я, дружина її брата Степана Облонського, чинить навпаки. Заради щастя і благополуччя дітей пробачає зраду чоловіку. Костянтин Левін, одружившись з молодшою сестрою Дар'ї, Кіті Щербацькою, прагне духовного й чистого шлюбу. Історія одруження Костянтина і Кіті, духовні пошуки Левіна є автобіографічними, оскільки відтворюють епізоди одруження і сімейного життя Льва Миколайовича й Софії Андріїв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616720" cy="5473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1763640" y="5949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ха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йл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Врубел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обаченн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Анн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арен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і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м» (1878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в Толстой створює умови, які реабілітують Анну. Вона відкрита, не приховує своїх стосунків з Вронським, прагне добитися розлучення у чоловіка. Проте письменник засуджує її. Розплатою за зраду чоловікові стає самогубство героїні,яке за задумом автора, — вияв Божого суду. Недаремно епіграфом до романа є цитата з біблійної книги «Повторення закону» в церковнослов'янському переклад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хання Анни до Вронського, на думку Льва Толстого, — є виявом не високого почуття,а згубної пристрасті. Її символ — люта завірюха, під час якої відбувається освідчення Вронського Анні. Усіх героїв Толстой вводить без попереднього опису і характеристик, в гострих життєвих ситуацій. Анну − в момент її зустрічі з Вронським, Стіву Облонського і Доллі в ситуації, коли обом здається, що їхня сім'я руйнується, Костянтина Левіна − в той день, коли він намагається зробити пропозицію Кіт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9T04:38:45Z</dcterms:modified>
  <cp:revision>7</cp:revision>
  <dc:subject/>
  <dc:title>PowerPoint Presentation</dc:title>
</cp:coreProperties>
</file>