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F6ED-862D-4C3B-82AE-BD529791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23D3-9CD9-4F66-8B67-B9C113C6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F9B0-BABB-455C-B8B7-DA821AE6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DC80-1C51-4900-A17E-996000BA3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E37D-7E09-49BF-96FE-CBC4FC9B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FDF6-F544-4A84-939E-05970C13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6716-9458-41B0-80FA-05D13E45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21D8-A0C7-4841-906A-A3EF5A69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4340-C39E-4613-8736-DCF41809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F33E-2E9D-45E6-B853-69F80825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2383-6093-4FD8-8154-F3D21D1B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A113-E390-44C2-8094-C37E9574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30F6-F9C9-496B-B562-0EAB94C6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9945-CA5D-4C3C-9A49-C6DEA35C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1463-3A79-40B3-A8E0-952987AA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BA5F-2FB1-481B-B3E1-18CD0545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57A6-0BE0-4A6E-8F69-5D41154B8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45AA6-2CD7-4B97-AA62-C88FE9A8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588CC-1057-4F74-8A28-9096C9A3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3AF01-E460-4C71-A79A-564E1B64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1C1BF-A7C2-4BD6-BC41-2357474E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8E7C3-EAFC-4AF0-A13E-74A7F5BA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EC97-51C6-4CF6-A28E-81CBC5A5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60419-9506-440B-9E88-74FD7A7D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66160-658B-4576-B841-67A6C9CD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5C5F5-7540-4233-9C39-BFDF2CC2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D3D0B-57C2-421C-A571-F4CBB26B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6A2BD-8228-4D1B-AC11-356897FC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CE25C-0EC0-4FA4-8088-4B41BD5A0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60E6B-C2D8-4921-8E4D-157476DA3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21B57-D9AA-40D2-86BD-C61B9DE0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9BA7E-91D4-4453-B3ED-41835472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FCC1C-9C2D-4109-A413-3452FA0B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4009-46E4-477A-91E8-E07CEFA9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7F4C9-B7F4-4314-A7BB-F5C10BEC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E5AEE-1CCF-4828-8DD3-C5C2AA0B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AED58-6437-4834-A5D9-FC0F25BC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8CCA0-45B4-4D04-A444-48F5025F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D5D7F-257C-479F-9B82-1CB48E41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A1CC0-039D-4B75-8E30-5BC960DC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B1382-06D2-4E3A-ACA5-D3CAFD11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58CC7-49C3-4603-859C-DAF9AAFC6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0B3E7-5B94-4E60-8DA7-09D3EAD4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8A40-0FC4-4293-A2F5-1C643CD8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ADFE-9874-4C1B-8A93-65B57E82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881D-7496-4C03-8C9B-7CED4A1F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30B4-408E-4C9D-BD1C-D8ED1523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4184-7152-4ED6-A74C-4A47B25D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011B-DD36-4019-961F-5F905D8ED58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216D-9943-4DA4-B8E4-9191F91564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B5A8-CD03-4CD3-ABF2-4D36D07A87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37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38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0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50000">
                  <a:srgbClr val="009900"/>
                </a:gs>
                <a:gs pos="100000">
                  <a:srgbClr val="cc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fbf0"/>
                </a:gs>
                <a:gs pos="100000">
                  <a:srgbClr val="cc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3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44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C383-AF09-4EE1-BE11-E642A90676A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14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9966"/>
                </a:solidFill>
                <a:latin typeface="Times New Roman"/>
              </a:rPr>
              <a:t>Презентація на тему: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066320" y="3885840"/>
            <a:ext cx="746604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ahoma"/>
              </a:rPr>
              <a:t>Роман “Анна Кареніна”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708-ii_largo_appassionato1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66"/>
                </a:solidFill>
                <a:latin typeface="Tahoma"/>
              </a:rPr>
              <a:t>Художні особливості</a:t>
            </a:r>
            <a:br>
              <a:rPr sz="4400"/>
            </a:b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арактерними художніми особливостями роману є повтори ситуацій та образів, які прогнозують розвиток подій. В епізоді знайомства Анни та Олексія Вронського на залізничному вокзалі гине зчіплювач вагонів. На залізничній станції відбувається й освічення Вронського до Анни. Образ залізниці співвідноситься в романі з мотивами пристрасті, смертельної загрози. Смерть Кареніної і провина Вронського провіщуються на перегонах,де Олексій через незграбність ламає хребет своїй кобилі. Символічного значення набуває й сон Анни, в якому вона бачить чоловіка,що працює з залізом, він нагадує образ залізничних службовців та овіяний загрозою і смертю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91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«Анні Кареніній» Толстой неодноразово використовує прийом внутрішнього монологу, хаотичних спостережень, вражень від навколишнього світу та думок героїні. У «Анні Кареніній» сюжет і фабула не збігаються. Принцип концентричного розташування сюжетних кіл − характерна для Толстого форма виявлення внутрішньої єдності «широкого і вільного роману». Глави роману розташовані циклами, між якими існує тісний зв'язок і в тематичному, і в сюжетному планах. Кожна частина роману має свій «вузол ідеї». Опорними пунктами композиції є сюжетно-тематичні центри, які послідовно змінють один одного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4032360" cy="5616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4788000" y="620640"/>
            <a:ext cx="396072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003640" cy="4005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"/>
          <p:cNvPicPr/>
          <p:nvPr/>
        </p:nvPicPr>
        <p:blipFill>
          <a:blip r:embed="rId2"/>
          <a:stretch/>
        </p:blipFill>
        <p:spPr>
          <a:xfrm>
            <a:off x="4284720" y="3500280"/>
            <a:ext cx="4859280" cy="3357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851280" cy="6021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"/>
          <p:cNvPicPr/>
          <p:nvPr/>
        </p:nvPicPr>
        <p:blipFill>
          <a:blip r:embed="rId2"/>
          <a:stretch/>
        </p:blipFill>
        <p:spPr>
          <a:xfrm>
            <a:off x="4500720" y="1268280"/>
            <a:ext cx="4392360" cy="460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6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321080" cy="61214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"/>
          <p:cNvPicPr/>
          <p:nvPr/>
        </p:nvPicPr>
        <p:blipFill>
          <a:blip r:embed="rId2"/>
          <a:stretch/>
        </p:blipFill>
        <p:spPr>
          <a:xfrm>
            <a:off x="4859280" y="476280"/>
            <a:ext cx="4033800" cy="6121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4392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"/>
          <p:cNvPicPr/>
          <p:nvPr/>
        </p:nvPicPr>
        <p:blipFill>
          <a:blip r:embed="rId2"/>
          <a:stretch/>
        </p:blipFill>
        <p:spPr>
          <a:xfrm>
            <a:off x="4067280" y="2708280"/>
            <a:ext cx="5076720" cy="4149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264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ahoma"/>
              </a:rPr>
              <a:t>Презентацію підготувала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ahoma"/>
              </a:rPr>
              <a:t>учениця 10 клас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ahoma"/>
              </a:rPr>
              <a:t>Черненко Любо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00720" y="565200"/>
            <a:ext cx="4319280" cy="629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ahoma"/>
              </a:rPr>
              <a:t>«Анна Кареніна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 —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ругий роман Льва Толстого, завершений 1877 року (опубліковано в 1876—1877 роках).</a:t>
            </a:r>
            <a:r>
              <a:rPr b="1" lang="ru-RU" sz="4400" spc="-1" strike="noStrike">
                <a:solidFill>
                  <a:srgbClr val="339966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105080" cy="6048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836640"/>
            <a:ext cx="75438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66"/>
                </a:solidFill>
                <a:latin typeface="Tahoma"/>
              </a:rPr>
              <a:t>Сюжет</a:t>
            </a:r>
            <a:br>
              <a:rPr sz="4000"/>
            </a:br>
            <a:endParaRPr b="1" lang="en-US" sz="4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6560" y="1980720"/>
            <a:ext cx="770580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сновний конфлікт роману розвивається на прикладі кількох сімейних пар: Анна − Каренін, Доллі − Облонський, Кіті − Левін. У всіх випадках автор так і не знаходить відповіді на хвилюючі його питання: як живе людина в сім'ї і в суспільстві, чи можна обмежитися тільки рамками сім'ї? У чому секрет людського щастя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68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68" fill="hold"/>
                                        <p:tgtEl>
                                          <p:spTgt spid="1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68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оловна героїня роману, Анна Кареніна—людина розумна та чесна, але її образ пов'язаний з обманом і зрадою. Сенс її життя—власне щастя. Обранцем Анни стає Олексій Вронський-представник петербурзької інтелігенції. Чоловік Анни, високопоставлений чиновник,який на перший погляд видається бездушним і черствим, але насправді здатний до високих почутті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98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2050920" y="404640"/>
            <a:ext cx="5473800" cy="54007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4"/>
          <p:cNvSpPr/>
          <p:nvPr/>
        </p:nvSpPr>
        <p:spPr>
          <a:xfrm>
            <a:off x="2771640" y="5949000"/>
            <a:ext cx="41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Анна Карен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і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а на картин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і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Г. Манизер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ри сюжетні лінії, які складають канву роману мають схожі та відмінні риси. Анна обирає кохання, руйнуючи родину. Дар'я, дружина її брата Степана Облонського, чинить навпаки. Заради щастя і благополуччя дітей пробачає зраду чоловіку. Костянтин Левін, одружившись з молодшою сестрою Дар'ї, Кіті Щербацькою, прагне духовного й чистого шлюбу. Історія одруження Костянтина і Кіті, духовні пошуки Левіна є автобіографічними, оскільки відтворюють епізоди одруження і сімейного життя Льва Миколайовича й Софії Андріївн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1763640" y="476280"/>
            <a:ext cx="5616720" cy="54738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7"/>
          <p:cNvSpPr/>
          <p:nvPr/>
        </p:nvSpPr>
        <p:spPr>
          <a:xfrm>
            <a:off x="1763640" y="594936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иха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йло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Врубель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Побачення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Анн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Карен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і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о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ї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із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с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ом» (1878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042560" y="1989000"/>
            <a:ext cx="7777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ев Толстой створює умови, які реабілітують Анну. Вона відкрита, не приховує своїх стосунків з Вронським, прагне добитися розлучення у чоловіка. Проте письменник засуджує її. Розплатою за зраду чоловікові стає самогубство героїні,яке за задумом автора, — вияв Божого суду. Недаремно епіграфом до романа є цитата з біблійної книги «Повторення закону» в церковнослов'янському перекладі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хання Анни до Вронського, на думку Льва Толстого, — є виявом не високого почуття,а згубної пристрасті. Її символ — люта завірюха, під час якої відбувається освідчення Вронського Анні. Усіх героїв Толстой вводить без попереднього опису і характеристик, в гострих життєвих ситуацій. Анну − в момент її зустрічі з Вронським, Стіву Облонського і Доллі в ситуації, коли обом здається, що їхня сім'я руйнується, Костянтина Левіна − в той день, коли він намагається зробити пропозицію Кіті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29T04:38:45Z</dcterms:modified>
  <cp:revision>7</cp:revision>
  <dc:subject/>
  <dc:title>PowerPoint Presentation</dc:title>
</cp:coreProperties>
</file>