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27B-3C18-4049-8DB6-56447564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ABD-648F-4C82-A50B-AD84BCCE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E65-C3E7-4A4A-9AD6-675044BE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A26-631C-410A-8DC5-F5B2B7A4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87E3-8995-43F7-8F05-794FECD5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7546-391C-4E87-8704-82DEA824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FD21-E5CA-4CB6-BD6D-4978769D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205F-C647-44D0-82A0-9B4ED1E6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C0FF-2558-4B5C-AEE6-183E8400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84EA-4089-4AEA-A30B-8E01355F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DC09-E3C6-4298-A7ED-EC00BEB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CAE-7CD2-48D6-A894-F2724FB5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686E-5EDF-4E08-B90F-073DA669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502C-2489-4D62-A6F8-56248DF2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5691-F8D7-49AA-9E11-736414A7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51AB-4A48-4206-820E-A826CE4F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D934-B1B3-4039-B9FD-CB8D7F22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ED8-DE7D-4585-8B11-274EA090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7DB-068F-4B52-BC8C-D8F96F72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F0B-54E1-4714-A6EA-6B54571E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F08-9D3F-4035-A1AC-FD61B0FE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B9E-4006-4C36-B951-982D78D6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19B-74DA-41E2-ADBE-E1525F10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92A-5D39-4C81-8F75-55CAD56D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A9D3-4CE4-428F-956A-5506AA7AF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45C4-99EB-4D67-B235-86AA6BEBE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nt"/>
          <p:cNvSpPr/>
          <p:nvPr/>
        </p:nvSpPr>
        <p:spPr>
          <a:xfrm>
            <a:off x="0" y="0"/>
            <a:ext cx="1558800" cy="1557360"/>
          </a:xfrm>
          <a:custGeom>
            <a:avLst/>
            <a:gdLst>
              <a:gd name="textAreaLeft" fmla="*/ 512280 w 1558800"/>
              <a:gd name="textAreaRight" fmla="*/ 1049760 w 1558800"/>
              <a:gd name="textAreaTop" fmla="*/ 727560 h 1557360"/>
              <a:gd name="textAreaBottom" fmla="*/ 978480 h 15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3399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765000"/>
            <a:ext cx="856908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Вираження різноманітних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смислових значень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за допомогою звертань, 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вставних слів і вставних конструкцій, 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їх емоційно - експресивний 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характер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24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У публіцистиному стилі звертання можуть набувати забарвлення офіційності,піднесеності,</a:t>
            </a:r>
            <a:br>
              <a:rPr sz="3600"/>
            </a:b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урочистості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3284280"/>
            <a:ext cx="5688000" cy="280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Arial"/>
              </a:rPr>
              <a:t>Дорогі випускники! Щасти вам на довгій життєвій ниві!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75240" y="3068640"/>
            <a:ext cx="27687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solidFill>
            <a:srgbClr val="ffccff"/>
          </a:soli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Arial"/>
              </a:rPr>
              <a:t>Звертанням у діловому стилі властиве широке використання штампів на зразок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87640" y="2421000"/>
            <a:ext cx="5688000" cy="302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Шановні друзі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Високоповажні гості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Дорогий друж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Товаришу Назаренко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72880" y="2421000"/>
            <a:ext cx="248616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Алгоритм</a:t>
            </a: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 характеристики звертання</a:t>
            </a: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684360" y="1557360"/>
            <a:ext cx="75596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діліть у реченні звертання, з'ясуйте його знач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84360" y="2276640"/>
            <a:ext cx="763272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значте його вид за будов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755640" y="2924280"/>
            <a:ext cx="1655640" cy="5760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епошир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6659640" y="2924280"/>
            <a:ext cx="1655640" cy="5760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шир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755640" y="3789360"/>
            <a:ext cx="763272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звіть спосіб вира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755640" y="4365720"/>
            <a:ext cx="2016000" cy="10080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мен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(інша час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ови в рол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менн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2916360" y="4365720"/>
            <a:ext cx="1800000" cy="9144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меннико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л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полу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6659640" y="4437000"/>
            <a:ext cx="1655640" cy="57636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755640" y="5445000"/>
            <a:ext cx="7632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бґрунтуйте розділові зна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826920" y="6021360"/>
            <a:ext cx="1656000" cy="57636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6732720" y="6021360"/>
            <a:ext cx="1655640" cy="57636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нак окл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442764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 flipH="1">
            <a:off x="1619280" y="270828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730872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427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>
            <a:off x="1763640" y="4221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738036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399564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5148360" y="4221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759636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8"/>
          <p:cNvSpPr/>
          <p:nvPr/>
        </p:nvSpPr>
        <p:spPr>
          <a:xfrm>
            <a:off x="169236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42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Arial"/>
              </a:rPr>
              <a:t>Записати речення, розставляючи розділові знаки. Звертання підкресли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Arial Rounded MT Bold"/>
              </a:rPr>
              <a:t>Як тебе не любити Києве мій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Arial Rounded MT Bold"/>
              </a:rPr>
              <a:t>Рідна мати моя ти ночей не доспала. Ти водила мене у поля край се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Arial Rounded MT Bold"/>
              </a:rPr>
              <a:t>Я чув Тарасе щирий мій  і шум твоїх гаї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Arial Rounded MT Bold"/>
              </a:rPr>
              <a:t>Славтесь щиро і гори і трави і птиці і сонце і квіти слався велика безсмертна Державо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Давайте перевіримо разом. Правильно буде так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fba3"/>
          </a:solidFill>
          <a:ln w="19080">
            <a:solidFill>
              <a:srgbClr val="cc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Arial Rounded MT Bold"/>
              </a:rPr>
              <a:t>Як тебе не любити, </a:t>
            </a:r>
            <a:r>
              <a:rPr b="1" i="1" lang="uk-UA" sz="3200" spc="-1" strike="noStrike" u="sng">
                <a:solidFill>
                  <a:srgbClr val="0000ff"/>
                </a:solidFill>
                <a:uFillTx/>
                <a:latin typeface="Arial Rounded MT Bold"/>
              </a:rPr>
              <a:t>Києве мій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ff"/>
                </a:solidFill>
                <a:uFillTx/>
                <a:latin typeface="Arial Rounded MT Bold"/>
              </a:rPr>
              <a:t>Рідна мати моя</a:t>
            </a:r>
            <a:r>
              <a:rPr b="1" i="1" lang="uk-UA" sz="3200" spc="-1" strike="noStrike">
                <a:solidFill>
                  <a:srgbClr val="0000ff"/>
                </a:solidFill>
                <a:latin typeface="Arial Rounded MT Bold"/>
              </a:rPr>
              <a:t>, ти ночей не доспала. Ти водила мене у поля край се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Arial Rounded MT Bold"/>
              </a:rPr>
              <a:t>Я чув, </a:t>
            </a:r>
            <a:r>
              <a:rPr b="1" i="1" lang="uk-UA" sz="3200" spc="-1" strike="noStrike" u="sng">
                <a:solidFill>
                  <a:srgbClr val="0000ff"/>
                </a:solidFill>
                <a:uFillTx/>
                <a:latin typeface="Arial Rounded MT Bold"/>
              </a:rPr>
              <a:t>Тарасе щирий мій</a:t>
            </a:r>
            <a:r>
              <a:rPr b="1" i="1" lang="uk-UA" sz="3200" spc="-1" strike="noStrike">
                <a:solidFill>
                  <a:srgbClr val="0000ff"/>
                </a:solidFill>
                <a:latin typeface="Arial Rounded MT Bold"/>
              </a:rPr>
              <a:t> , і шум твоїх гаї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Arial Rounded MT Bold"/>
              </a:rPr>
              <a:t>Славтесь щиро, </a:t>
            </a:r>
            <a:r>
              <a:rPr b="1" i="1" lang="uk-UA" sz="3200" spc="-1" strike="noStrike" u="sng">
                <a:solidFill>
                  <a:srgbClr val="0000ff"/>
                </a:solidFill>
                <a:uFillTx/>
                <a:latin typeface="Arial Rounded MT Bold"/>
              </a:rPr>
              <a:t>і гори, і трави, і птиці, і сонце, і квіти, слався, велика безсмертна Державо</a:t>
            </a:r>
            <a:r>
              <a:rPr b="1" i="1" lang="uk-UA" sz="3200" spc="-1" strike="noStrike">
                <a:solidFill>
                  <a:srgbClr val="0000ff"/>
                </a:solidFill>
                <a:latin typeface="Arial Rounded MT Bol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Дослідження - відновленн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й чого ти, …, на яр похилився, молодий …, чого зажуривс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й не шуми,… , зелений байраче, не плач, не журися, молодий …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й, куди їдеш, …, куди їдеш, мій друж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м, чом, чом, о … ти моя, чарує так мене ясна твоя крас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йди, …, працею зморена, хоч на хвилиночку в га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684360" y="5445000"/>
            <a:ext cx="813744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лова для довідки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дубе,  козаче,  луже,  козач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Явтуше,  земле, кохан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Дослідження - трансформаці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Arial"/>
              </a:rPr>
              <a:t>Чудова українська пісня завжди лунає на свят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Arial"/>
              </a:rPr>
              <a:t>Сонце ласкаве зігріває весняні схо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Arial"/>
              </a:rPr>
              <a:t>Брат поспішав до шко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Arial"/>
              </a:rPr>
              <a:t>Дитина спить міцним сн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Arial"/>
              </a:rPr>
              <a:t>Не щебече соловейко під вікном близенько, не щебече малесенький, на зорі раненьк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Творче конструюван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3754440" cy="452592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Марія Степані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Іван Павлови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Сергій Петрови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Іго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Ганнусень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Коза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Дру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1700280"/>
            <a:ext cx="3754440" cy="439272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Шанов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Вельмишанов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Дор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Люб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М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Поваж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Ш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6"/>
          <p:cNvSpPr/>
          <p:nvPr/>
        </p:nvSpPr>
        <p:spPr>
          <a:xfrm>
            <a:off x="395280" y="404640"/>
            <a:ext cx="8497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ff"/>
                </a:solidFill>
                <a:latin typeface="Arial"/>
              </a:rPr>
              <a:t>Вставні слова та речення</a:t>
            </a:r>
            <a:r>
              <a:rPr b="1" lang="uk-UA" sz="3000" spc="-1" strike="noStrike">
                <a:solidFill>
                  <a:srgbClr val="800000"/>
                </a:solidFill>
                <a:latin typeface="Arial"/>
              </a:rPr>
              <a:t> виражають особисте ставлення мовця до свого висловлюванн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 flipV="1">
            <a:off x="6000840" y="2928600"/>
            <a:ext cx="43344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68360" y="2565360"/>
            <a:ext cx="8280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ff"/>
                </a:solidFill>
                <a:latin typeface="Arial"/>
              </a:rPr>
              <a:t>Вставні слова вимовляють прискорено, зниженим тоном і відділяють від інших слів у реченні пауз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46200" y="4724280"/>
            <a:ext cx="81738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800000"/>
                </a:solidFill>
                <a:latin typeface="Arial"/>
              </a:rPr>
              <a:t>На письмі вставні слова й словосполучення виділяють ком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6120000" cy="512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 rot="16200000">
            <a:off x="-2803320" y="3063960"/>
            <a:ext cx="6120000" cy="51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853280" y="-10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ГРУПИ ВСТАВНИХ КОНСТРУКЦІ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9280" y="546120"/>
          <a:ext cx="8713800" cy="5772240"/>
        </p:xfrm>
        <a:graphic>
          <a:graphicData uri="http://schemas.openxmlformats.org/drawingml/2006/table">
            <a:tbl>
              <a:tblPr/>
              <a:tblGrid>
                <a:gridCol w="3672000"/>
                <a:gridCol w="5041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Bookman Old Style"/>
                        </a:rPr>
                        <a:t>Груп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Bookman Old Style"/>
                        </a:rPr>
                        <a:t>Приклад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иражають упевненість, невпевненість, сумні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безумовно, безперечно, без сумніву, певна річ, правда, здається, видно, мабуть, може, очевидно, може бути, либонь, а може, правду кажучи, щоправда, сподіваю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иражають задоволення, незадоволення, радість, жаль, здивува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 щастя, на диво, слава Богу, на жаль, як на зло, на сором, чого доброго, як навмисне, як на біду, дивна рі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Указують на джерело повідомл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-моєму, по-твоєму, кажуть, як кажуть, мовляв, на мою думку, бачу, по-вашому, як відомо, на думку..., за словами..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Указують на зв'язок думок, послідовність викла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-перше, по-друге, нарешті, до речі, між іншим, крім того, навпаки, отже, наприклад, інакше кажучи, таким чином, значить, виходить, однак, про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ривертають увагу співрозмовн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уєте, бачиш, уяви собі, зверніть увагу, майте на увазі, між нами кажучи, зрозумійте, даруй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-3786120" y="5216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0000"/>
                </a:solidFill>
                <a:latin typeface="Monotype Corsiva"/>
              </a:rPr>
              <a:t>Мета уроку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485316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Повторити основні відомості про звертання, вставні слова й вставні конструкції, розділові знаки під час їх виділенн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Розвивати вміння правильно й комунікативно доцільно висловлювати власні думки за допомогою звертань, вставних слів, вставних конструкці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16200000">
            <a:off x="-2803320" y="3208320"/>
            <a:ext cx="6120000" cy="512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612000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Text Box 6"/>
          <p:cNvGrpSpPr/>
          <p:nvPr/>
        </p:nvGrpSpPr>
        <p:grpSpPr>
          <a:xfrm>
            <a:off x="755640" y="189000"/>
            <a:ext cx="7740720" cy="2849400"/>
            <a:chOff x="755640" y="189000"/>
            <a:chExt cx="7740720" cy="2849400"/>
          </a:xfrm>
        </p:grpSpPr>
        <p:pic>
          <p:nvPicPr>
            <p:cNvPr id="191" name="Text Box 6" descr=""/>
            <p:cNvPicPr/>
            <p:nvPr/>
          </p:nvPicPr>
          <p:blipFill>
            <a:blip r:embed="rId2"/>
            <a:stretch/>
          </p:blipFill>
          <p:spPr>
            <a:xfrm>
              <a:off x="755640" y="189000"/>
              <a:ext cx="774072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66800" y="203400"/>
              <a:ext cx="771516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800000"/>
                  </a:solidFill>
                  <a:latin typeface="Minion Pro SmBd"/>
                </a:rPr>
                <a:t>Від </a:t>
              </a:r>
              <a:r>
                <a:rPr b="1" lang="uk-UA" sz="3000" spc="-1" strike="noStrike">
                  <a:solidFill>
                    <a:srgbClr val="0000ff"/>
                  </a:solidFill>
                  <a:latin typeface="Minion Pro SmBd"/>
                </a:rPr>
                <a:t>вставних слів</a:t>
              </a:r>
              <a:r>
                <a:rPr b="1" lang="uk-UA" sz="3000" spc="-1" strike="noStrike">
                  <a:solidFill>
                    <a:srgbClr val="800000"/>
                  </a:solidFill>
                  <a:latin typeface="Minion Pro SmBd"/>
                </a:rPr>
                <a:t> слід відрізняти </a:t>
              </a:r>
              <a:r>
                <a:rPr b="1" lang="uk-UA" sz="3000" spc="-1" strike="noStrike">
                  <a:solidFill>
                    <a:srgbClr val="0000ff"/>
                  </a:solidFill>
                  <a:latin typeface="Minion Pro SmBd"/>
                </a:rPr>
                <a:t>вставлені слова та речення</a:t>
              </a:r>
              <a:r>
                <a:rPr b="1" lang="uk-UA" sz="3000" spc="-1" strike="noStrike">
                  <a:solidFill>
                    <a:srgbClr val="800000"/>
                  </a:solidFill>
                  <a:latin typeface="Minion Pro SmBd"/>
                </a:rPr>
                <a:t>, що вносять у речення додаткову інформацію і являють собою принагідні зауваження до основного повідомленн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7"/>
          <p:cNvSpPr/>
          <p:nvPr/>
        </p:nvSpPr>
        <p:spPr>
          <a:xfrm>
            <a:off x="179280" y="2997360"/>
            <a:ext cx="849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Arial"/>
              </a:rPr>
              <a:t>Він, </a:t>
            </a:r>
            <a:r>
              <a:rPr b="1" i="1" lang="uk-UA" sz="3000" spc="-1" strike="noStrike">
                <a:solidFill>
                  <a:srgbClr val="0000ff"/>
                </a:solidFill>
                <a:latin typeface="Arial"/>
              </a:rPr>
              <a:t>правду мовлячи,</a:t>
            </a:r>
            <a:r>
              <a:rPr b="1" i="1" lang="uk-UA" sz="3000" spc="-1" strike="noStrike">
                <a:solidFill>
                  <a:srgbClr val="000000"/>
                </a:solidFill>
                <a:latin typeface="Arial"/>
              </a:rPr>
              <a:t> не почував ніякої охоти вчитися гри на фортепіано. (І.Франк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50920" y="4508640"/>
            <a:ext cx="8497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Arial"/>
              </a:rPr>
              <a:t>Климко став навколішки, припав до води – </a:t>
            </a:r>
            <a:r>
              <a:rPr b="1" i="1" lang="uk-UA" sz="3000" spc="-1" strike="noStrike">
                <a:solidFill>
                  <a:srgbClr val="0000ff"/>
                </a:solidFill>
                <a:latin typeface="Arial"/>
              </a:rPr>
              <a:t>холодна та добра!</a:t>
            </a:r>
            <a:r>
              <a:rPr b="1" i="1" lang="uk-UA" sz="3000" spc="-1" strike="noStrike">
                <a:solidFill>
                  <a:srgbClr val="000000"/>
                </a:solidFill>
                <a:latin typeface="Arial"/>
              </a:rPr>
              <a:t> – тоді вмився. (Г.Тютюнни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4067280" y="256536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c0000"/>
                </a:solidFill>
                <a:latin typeface="Calibri"/>
              </a:rPr>
              <a:t>ВСТАВН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2714760" y="614376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c0000"/>
                </a:solidFill>
                <a:latin typeface="Calibri"/>
              </a:rPr>
              <a:t>ВСТАВЛЕН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2999880" y="2852640"/>
            <a:ext cx="995400" cy="290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 flipH="1" flipV="1">
            <a:off x="3214800" y="5500800"/>
            <a:ext cx="1000080" cy="64296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Дослідження - спостереженн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Кажуть, що українець співає цілий рік і цілий вік. Так, мабуть, нам від Бога дано. Було заборонено слово, письмо, щепили до нашої культури те, що їй зроду – віку невластиве. Але нація збереглася, безперечно, завдяки  тому півмільйонному пісенному вінку, котрим була заквітчана Україна, єдина держава у світі, що має таку багату пісенну спадщин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115236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Вибірково – розподільна роб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  </a:t>
            </a:r>
            <a:br>
              <a:rPr sz="4000"/>
            </a:b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Сину, треба думати, соромно сказати, Вітчизно моя, може, люди, дозвольте, Ніно Павлівно, тато його був у відрядженні, Україно, безумовно, між іншим, дорогі мої однокласники,мово рідна, на мою думку, по перше, до речі, беперечно, мій друж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Скласти речення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52592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ff"/>
                </a:solidFill>
                <a:latin typeface="Arial"/>
              </a:rPr>
              <a:t>Кажуть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ff"/>
                </a:solidFill>
                <a:latin typeface="Arial"/>
              </a:rPr>
              <a:t>Виходить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ff"/>
                </a:solidFill>
                <a:latin typeface="Arial"/>
              </a:rPr>
              <a:t>Здавалос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Робота в пар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lang="uk-UA" sz="4800" spc="-1" strike="noStrike">
                <a:solidFill>
                  <a:srgbClr val="ff0000"/>
                </a:solidFill>
                <a:latin typeface="Monotype Corsiva"/>
              </a:rPr>
              <a:t>Скласти діалог на тему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Monotype Corsiva"/>
              </a:rPr>
              <a:t>       “</a:t>
            </a:r>
            <a:r>
              <a:rPr b="1" lang="uk-UA" sz="4800" spc="-1" strike="noStrike">
                <a:solidFill>
                  <a:srgbClr val="ff0000"/>
                </a:solidFill>
                <a:latin typeface="Monotype Corsiva"/>
              </a:rPr>
              <a:t>Мої плани на майбутнє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Arial"/>
              </a:rPr>
              <a:t>Довідка: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звичайно, без сумніву, мабуть, очевидно, на щастя, на радість, на мій погляд, на мою думку, як кажуть, до речі, між нами кажучи, одним слов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1812960" cy="21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5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9360" rIns="99360" tIns="56160" bIns="56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416720" cy="2952720"/>
          </a:xfrm>
          <a:prstGeom prst="rect">
            <a:avLst/>
          </a:prstGeom>
          <a:solidFill>
            <a:srgbClr val="ffccff"/>
          </a:soli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Звертання – </a:t>
            </a:r>
            <a:r>
              <a:rPr b="1" lang="uk-UA" sz="3600" spc="-1" strike="noStrike">
                <a:solidFill>
                  <a:srgbClr val="000066"/>
                </a:solidFill>
                <a:latin typeface="Arial"/>
              </a:rPr>
              <a:t>слово або словосполучення в реченні, що називає особу або предмет, до кого звернена мова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71640" y="3860640"/>
            <a:ext cx="7345440" cy="2376720"/>
          </a:xfrm>
          <a:prstGeom prst="rect">
            <a:avLst/>
          </a:prstGeom>
          <a:solidFill>
            <a:srgbClr val="ffc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0000"/>
                </a:solidFill>
                <a:latin typeface="Monotype Corsiva"/>
              </a:rPr>
              <a:t>О мово українська! Ти – вода з кринички, над якою гнуться верби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solidFill>
            <a:srgbClr val="ff99cc"/>
          </a:soli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</a:rPr>
              <a:t>Звертання не є членом речення</a:t>
            </a: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2707920"/>
            <a:ext cx="4032360" cy="1942920"/>
          </a:xfrm>
          <a:prstGeom prst="rect">
            <a:avLst/>
          </a:prstGeom>
          <a:solidFill>
            <a:srgbClr val="ffff99"/>
          </a:solidFill>
          <a:ln w="19080">
            <a:solidFill>
              <a:srgbClr val="cc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Звертання привертають увагу до того, до кого звернена мова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6000" y="2736360"/>
            <a:ext cx="4038840" cy="198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cc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Звертання виражається кличним відмін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117" descr="Star---Smiling-3"/>
          <p:cNvPicPr/>
          <p:nvPr/>
        </p:nvPicPr>
        <p:blipFill>
          <a:blip r:embed="rId2"/>
          <a:stretch/>
        </p:blipFill>
        <p:spPr>
          <a:xfrm>
            <a:off x="1042920" y="1125360"/>
            <a:ext cx="1870200" cy="191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8" descr="Star---Smiling-3"/>
          <p:cNvPicPr/>
          <p:nvPr/>
        </p:nvPicPr>
        <p:blipFill>
          <a:blip r:embed="rId3"/>
          <a:stretch/>
        </p:blipFill>
        <p:spPr>
          <a:xfrm>
            <a:off x="6443640" y="1125360"/>
            <a:ext cx="1911240" cy="19591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9"/>
          <p:cNvSpPr/>
          <p:nvPr/>
        </p:nvSpPr>
        <p:spPr>
          <a:xfrm>
            <a:off x="1547640" y="4724280"/>
            <a:ext cx="6480360" cy="191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ролі звертання виступають ім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мена по батькові та прізвищ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сіб, назви осіб за родом діяльності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одинними стосунками, рис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арактеру  і т. ін., а в художніх тв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акож назви тварин, неістот тощ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763640" y="0"/>
            <a:ext cx="5364360" cy="1849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539640" y="2602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Звертання займають позицію на початку, в середині, і в кінці реч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24000" y="2205000"/>
            <a:ext cx="2952720" cy="187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00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вертання, що стоїть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очатку р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иділя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ою або знаком окли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 якщо вимовля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ідвищеним тон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9640" y="2205000"/>
            <a:ext cx="2665080" cy="1871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00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У середині р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вертання виділя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 обох боків ком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227640" y="2205000"/>
            <a:ext cx="2592360" cy="1871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00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вертання в кінц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ечення виділя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ою зліва, піс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вертання став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той знак, я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отребує зміст реченн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19640" y="5084640"/>
            <a:ext cx="2376360" cy="1923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Rounded MT Bold"/>
              </a:rPr>
              <a:t>Виростеш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ти,</a:t>
            </a:r>
            <a:r>
              <a:rPr b="1" i="1" lang="uk-UA" sz="2000" spc="-1" strike="noStrike">
                <a:solidFill>
                  <a:srgbClr val="ff3300"/>
                </a:solidFill>
                <a:latin typeface="Arial"/>
              </a:rPr>
              <a:t> сину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, вирушиш в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95280" y="5084640"/>
            <a:ext cx="2448000" cy="1923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00"/>
                </a:solidFill>
                <a:latin typeface="Arial"/>
              </a:rPr>
              <a:t>Краю, мій краю,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хвилями Дунаю я лелію зі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6516720" y="5084640"/>
            <a:ext cx="2305080" cy="1936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Rounded MT Bold"/>
              </a:rPr>
              <a:t>Прощай, </a:t>
            </a:r>
            <a:r>
              <a:rPr b="1" i="1" lang="uk-UA" sz="2000" spc="-1" strike="noStrike">
                <a:solidFill>
                  <a:srgbClr val="ff3300"/>
                </a:solidFill>
                <a:latin typeface="Arial Rounded MT Bold"/>
              </a:rPr>
              <a:t>рідний краю</a:t>
            </a: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7667640" y="400536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4716360" y="4005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1619280" y="4005360"/>
            <a:ext cx="0" cy="11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>
            <a:off x="1692360" y="1125360"/>
            <a:ext cx="2448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4716360" y="1125360"/>
            <a:ext cx="3167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4427640" y="1197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0000"/>
                </a:solidFill>
                <a:latin typeface="Arial"/>
              </a:rPr>
              <a:t>Види звертань за будовою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3"/>
          <p:cNvSpPr/>
          <p:nvPr/>
        </p:nvSpPr>
        <p:spPr>
          <a:xfrm flipH="1">
            <a:off x="2195280" y="1125360"/>
            <a:ext cx="165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5219640" y="1125360"/>
            <a:ext cx="1440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292720" y="2205000"/>
            <a:ext cx="36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Пошире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виражені словосполученн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ілим реченням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11280" y="2276640"/>
            <a:ext cx="356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Непоширені</a:t>
            </a:r>
            <a:r>
              <a:rPr b="0" lang="uk-UA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виражені одним словом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539640" y="4365720"/>
            <a:ext cx="3313080" cy="1922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Діду, а які у сонц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ключі?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ff"/>
                </a:solidFill>
                <a:latin typeface="Arial"/>
              </a:rPr>
              <a:t>(М. Стельм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5292720" y="4365720"/>
            <a:ext cx="3672000" cy="18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Учітеся, брати мої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думай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читайте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(Т. Шевченк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2124000" y="3573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7093080" y="39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79280" y="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042920" y="260280"/>
            <a:ext cx="781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cc0000"/>
                </a:solidFill>
                <a:latin typeface="Palatino Linotype"/>
              </a:rPr>
              <a:t>ЗНАЙДІТЬ ЗВЕРТАННЯ І ВИПИШІТЬ Ї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26920" y="1125360"/>
            <a:ext cx="831708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Зоре моя вечірняя, зійди над водою.                  (Т.Шевченк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Ох, пісне, чому, як той птах не летиш? (М.Рильськ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Дяка щирая тобі, ніченько-чарівниченько, що закрила ти моє личенько. (Л.Україн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Розвернися на всі боки, ниво-десятино, та засійся не словами, а розумом, ниво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900000" y="1197000"/>
            <a:ext cx="3168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1619280" y="2349360"/>
            <a:ext cx="1297080" cy="430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4284720" y="3429000"/>
            <a:ext cx="424800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5219640" y="4508640"/>
            <a:ext cx="273528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3399ff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вертання вживається в різних 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илях мовлення</a:t>
            </a: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Овал 4"/>
          <p:cNvSpPr/>
          <p:nvPr/>
        </p:nvSpPr>
        <p:spPr>
          <a:xfrm>
            <a:off x="324000" y="2349360"/>
            <a:ext cx="2735280" cy="1295640"/>
          </a:xfrm>
          <a:prstGeom prst="ellipse">
            <a:avLst/>
          </a:prstGeom>
          <a:solidFill>
            <a:srgbClr val="ff99ff">
              <a:alpha val="64000"/>
            </a:srgbClr>
          </a:solidFill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художн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5"/>
          <p:cNvSpPr/>
          <p:nvPr/>
        </p:nvSpPr>
        <p:spPr>
          <a:xfrm>
            <a:off x="4859280" y="4149720"/>
            <a:ext cx="3132360" cy="1212840"/>
          </a:xfrm>
          <a:prstGeom prst="ellipse">
            <a:avLst/>
          </a:prstGeom>
          <a:solidFill>
            <a:srgbClr val="00ffff">
              <a:alpha val="55000"/>
            </a:srgbClr>
          </a:solidFill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офіцій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іло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6"/>
          <p:cNvSpPr/>
          <p:nvPr/>
        </p:nvSpPr>
        <p:spPr>
          <a:xfrm>
            <a:off x="5867280" y="2349360"/>
            <a:ext cx="2987640" cy="1214640"/>
          </a:xfrm>
          <a:prstGeom prst="ellipse">
            <a:avLst/>
          </a:prstGeom>
          <a:solidFill>
            <a:srgbClr val="af67ff">
              <a:alpha val="57000"/>
            </a:srgbClr>
          </a:solidFill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розмов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Прямая со стрелкой 8"/>
          <p:cNvCxnSpPr/>
          <p:nvPr/>
        </p:nvCxnSpPr>
        <p:spPr>
          <a:xfrm flipH="1">
            <a:off x="1547280" y="1412640"/>
            <a:ext cx="1115280" cy="864360"/>
          </a:xfrm>
          <a:prstGeom prst="straightConnector1">
            <a:avLst/>
          </a:prstGeom>
          <a:ln w="38160">
            <a:solidFill>
              <a:srgbClr val="000080"/>
            </a:solidFill>
            <a:miter/>
            <a:tailEnd len="med" type="arrow" w="med"/>
          </a:ln>
        </p:spPr>
      </p:cxnSp>
      <p:cxnSp>
        <p:nvCxnSpPr>
          <p:cNvPr id="131" name="Прямая со стрелкой 10"/>
          <p:cNvCxnSpPr/>
          <p:nvPr/>
        </p:nvCxnSpPr>
        <p:spPr>
          <a:xfrm>
            <a:off x="6443640" y="1412640"/>
            <a:ext cx="1442160" cy="864360"/>
          </a:xfrm>
          <a:prstGeom prst="straightConnector1">
            <a:avLst/>
          </a:prstGeom>
          <a:ln w="38160">
            <a:solidFill>
              <a:srgbClr val="000080"/>
            </a:solidFill>
            <a:miter/>
            <a:tailEnd len="med" type="arrow" w="med"/>
          </a:ln>
        </p:spPr>
      </p:cxnSp>
      <p:sp>
        <p:nvSpPr>
          <p:cNvPr id="132" name="Oval 10"/>
          <p:cNvSpPr/>
          <p:nvPr/>
        </p:nvSpPr>
        <p:spPr>
          <a:xfrm>
            <a:off x="1187280" y="4149720"/>
            <a:ext cx="2953080" cy="1297080"/>
          </a:xfrm>
          <a:prstGeom prst="ellipse">
            <a:avLst/>
          </a:prstGeom>
          <a:solidFill>
            <a:srgbClr val="ffff99">
              <a:alpha val="99000"/>
            </a:srgbClr>
          </a:soli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убліцистич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10"/>
          <p:cNvCxnSpPr>
            <a:stCxn id="126" idx="2"/>
          </p:cNvCxnSpPr>
          <p:nvPr/>
        </p:nvCxnSpPr>
        <p:spPr>
          <a:xfrm>
            <a:off x="4572000" y="1417680"/>
            <a:ext cx="1208880" cy="2635920"/>
          </a:xfrm>
          <a:prstGeom prst="straightConnector1">
            <a:avLst/>
          </a:prstGeom>
          <a:ln w="38160">
            <a:solidFill>
              <a:srgbClr val="000080"/>
            </a:solidFill>
            <a:miter/>
            <a:tailEnd len="med" type="arrow" w="med"/>
          </a:ln>
        </p:spPr>
      </p:cxnSp>
      <p:cxnSp>
        <p:nvCxnSpPr>
          <p:cNvPr id="134" name="Прямая со стрелкой 10"/>
          <p:cNvCxnSpPr>
            <a:stCxn id="126" idx="2"/>
          </p:cNvCxnSpPr>
          <p:nvPr/>
        </p:nvCxnSpPr>
        <p:spPr>
          <a:xfrm flipH="1">
            <a:off x="2770920" y="1417680"/>
            <a:ext cx="1801080" cy="2659680"/>
          </a:xfrm>
          <a:prstGeom prst="straightConnector1">
            <a:avLst/>
          </a:prstGeom>
          <a:ln w="38160">
            <a:solidFill>
              <a:srgbClr val="000080"/>
            </a:solidFill>
            <a:miter/>
            <a:tailEnd len="med" type="arrow" w="med"/>
          </a:ln>
        </p:spPr>
      </p:cxn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Звертання, вжиті у художньому стилі, набувають особливих емоційно-експресивних відтінків,особливо звертання до різних предметів і речей об'єктивного сві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3573360"/>
            <a:ext cx="8229600" cy="452592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2637000"/>
            <a:ext cx="748836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Ох, мій дубе!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 згадую знов неповт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755640" y="4076640"/>
            <a:ext cx="7488360" cy="115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дорові будьте,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рож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к вам живеться т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755640" y="5445000"/>
            <a:ext cx="7488360" cy="115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драстуй,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пілий колосе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ясна зірко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, діточ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 вивела аж семір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Роза"/>
          <p:cNvPicPr/>
          <p:nvPr/>
        </p:nvPicPr>
        <p:blipFill>
          <a:blip r:embed="rId2"/>
          <a:stretch/>
        </p:blipFill>
        <p:spPr>
          <a:xfrm>
            <a:off x="755640" y="4076640"/>
            <a:ext cx="158436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4:43:15Z</dcterms:created>
  <dc:creator>Fudjik</dc:creator>
  <dc:description/>
  <dc:language>en-US</dc:language>
  <cp:lastModifiedBy>Admin</cp:lastModifiedBy>
  <dcterms:modified xsi:type="dcterms:W3CDTF">2012-03-31T16:16:47Z</dcterms:modified>
  <cp:revision>24</cp:revision>
  <dc:subject/>
  <dc:title>Частини мови</dc:title>
</cp:coreProperties>
</file>