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2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CFE7-19E1-404C-9815-BEF6C94E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F31C-D7CB-4421-84C9-51CF1CE0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ADC1-ABCB-4CDC-B413-E4E83F51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1EF3-8363-4B34-9479-492F53A2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F36B-FF14-4656-8818-98280874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C194-A7F5-49FF-988B-EF2A7303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D2BF-E1AA-454F-9685-58469A43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C252-11AF-49F7-96AA-F2267396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7F35-1D32-4ABD-95F1-64575F04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7A5A-AB80-4FD0-A7F5-13939129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C10D-040B-4203-8577-F1AC517B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F137-91AE-4464-BB41-A165690D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CFD2-B4A1-4D14-908E-B4F0C6C4F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055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52280" y="1822320"/>
            <a:ext cx="9296280" cy="5035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219320" y="304920"/>
            <a:ext cx="73911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есняні  квіти </a:t>
            </a:r>
            <a:endParaRPr b="1" lang="en-US" sz="5400" spc="1" strike="noStrike">
              <a:ln w="0">
                <a:noFill/>
              </a:ln>
              <a:solidFill>
                <a:srgbClr val="00cc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477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0" y="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600" spc="-1" strike="noStrike">
                <a:solidFill>
                  <a:srgbClr val="ff3300"/>
                </a:solidFill>
                <a:latin typeface="Arial"/>
              </a:rPr>
              <a:t>Примул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5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753480" cy="7277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3352680"/>
            <a:ext cx="8153280" cy="2057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348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Бережіть природу!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4496040" cy="4267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114800" y="1066680"/>
            <a:ext cx="3505320" cy="3148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57200" y="6248520"/>
            <a:ext cx="815328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867280" y="152280"/>
            <a:ext cx="3105360" cy="3971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2806560"/>
            <a:ext cx="5562720" cy="405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380880"/>
            <a:ext cx="4343400" cy="1905120"/>
          </a:xfrm>
          <a:prstGeom prst="wedgeEllipseCallout">
            <a:avLst>
              <a:gd name="adj1" fmla="val -5921"/>
              <a:gd name="adj2" fmla="val 85166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6600"/>
                </a:solidFill>
                <a:latin typeface="Arial"/>
              </a:rPr>
              <a:t>Підсніж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4724280"/>
            <a:ext cx="3124080" cy="1676520"/>
          </a:xfrm>
          <a:prstGeom prst="ellipse">
            <a:avLst/>
          </a:prstGeom>
          <a:solidFill>
            <a:srgbClr val="00ffcc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6600"/>
                </a:solidFill>
                <a:latin typeface="Times New Roman"/>
              </a:rPr>
              <a:t>Медуниц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391160" y="4114800"/>
            <a:ext cx="7596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ff"/>
                </a:solidFill>
                <a:latin typeface="Times New Roman"/>
              </a:rPr>
              <a:t>Ряс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581640" cy="3733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105520" y="152280"/>
            <a:ext cx="3352680" cy="2057400"/>
          </a:xfrm>
          <a:prstGeom prst="wedgeRoundRectCallout">
            <a:avLst>
              <a:gd name="adj1" fmla="val -97537"/>
              <a:gd name="adj2" fmla="val 123921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8000"/>
                </a:solidFill>
                <a:latin typeface="Times New Roman"/>
              </a:rPr>
              <a:t>Горицві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8000"/>
                </a:solidFill>
                <a:latin typeface="Times New Roman"/>
              </a:rPr>
              <a:t>весня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3124080"/>
            <a:ext cx="4038840" cy="3568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4800600"/>
            <a:ext cx="4343400" cy="1905120"/>
          </a:xfrm>
          <a:prstGeom prst="wedgeEllipseCallout">
            <a:avLst>
              <a:gd name="adj1" fmla="val 59356"/>
              <a:gd name="adj2" fmla="val -77833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рандуш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сня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15238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181480" y="228600"/>
            <a:ext cx="3702240" cy="4114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-152280" y="228600"/>
            <a:ext cx="4876560" cy="228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imes New Roman"/>
              </a:rPr>
              <a:t>Приму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2514600"/>
            <a:ext cx="4648320" cy="4159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952880" y="4343400"/>
            <a:ext cx="4191120" cy="23623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Проліс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3809880" cy="5257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009440" y="5438520"/>
            <a:ext cx="2239920" cy="10879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Сон-тр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419720" y="3429000"/>
            <a:ext cx="4724280" cy="3429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724280" y="533520"/>
            <a:ext cx="4267440" cy="1600200"/>
          </a:xfrm>
          <a:prstGeom prst="cloudCallout">
            <a:avLst>
              <a:gd name="adj1" fmla="val 2305"/>
              <a:gd name="adj2" fmla="val 125495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8000"/>
                </a:solidFill>
                <a:latin typeface="Times New Roman"/>
              </a:rPr>
              <a:t>Кульбаба</a:t>
            </a:r>
            <a:r>
              <a:rPr b="0" lang="uk-UA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038840" cy="5715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3867120" y="5320440"/>
            <a:ext cx="2565000" cy="892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Крокус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indefinite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952880" y="152280"/>
            <a:ext cx="3962520" cy="5334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4038480" cy="5791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295280" y="5029200"/>
            <a:ext cx="76964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3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ffcc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нвалії </a:t>
            </a:r>
            <a:endParaRPr b="0" lang="en-US" sz="1800" spc="1" strike="noStrike">
              <a:ln w="12600">
                <a:solidFill>
                  <a:srgbClr val="99ffcc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76212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380880" y="3962520"/>
            <a:ext cx="83059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емон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убравн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5556 L 0.00417 -0.38889 E">
                                      <p:cBhvr>
                                        <p:cTn id="145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8:07:15Z</dcterms:created>
  <dc:creator>мама</dc:creator>
  <dc:description/>
  <dc:language>en-US</dc:language>
  <cp:lastModifiedBy>Люда</cp:lastModifiedBy>
  <dcterms:modified xsi:type="dcterms:W3CDTF">2012-03-23T09:26:3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