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2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F14-F505-46E2-8CCE-E508EC5B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661-323B-492B-9A0B-F3DF456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364-398E-474C-9463-AEAEAFF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86A-B364-4073-81D7-37B8E72A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8F1-8B77-4BEC-B263-ECCB6F86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141-0393-48DF-9722-220D49B3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7C1-8F8E-462D-BAB9-76F3731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1DD-48A2-4161-A8FC-7B510989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E53-CE4B-495B-A5D1-623C9F9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987-7005-41BF-A7C4-525706F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DB4-B50C-4179-8580-EEF75F1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681-BD79-4BC5-946C-E7DE40E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400D-77B2-41B5-82CA-5A8A4305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280" y="1822320"/>
            <a:ext cx="9296280" cy="503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19320" y="304920"/>
            <a:ext cx="7391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няні  квіти </a:t>
            </a:r>
            <a:endParaRPr b="1" lang="en-US" sz="5400" spc="1" strike="noStrike">
              <a:ln w="0">
                <a:noFill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3300"/>
                </a:solidFill>
                <a:latin typeface="Arial"/>
              </a:rPr>
              <a:t>Приму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277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3352680"/>
            <a:ext cx="815328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4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ережіть природу!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449604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3505320" cy="314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8153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05360" cy="397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806560"/>
            <a:ext cx="556272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4343400" cy="1905120"/>
          </a:xfrm>
          <a:prstGeom prst="wedgeEllipseCallout">
            <a:avLst>
              <a:gd name="adj1" fmla="val -5921"/>
              <a:gd name="adj2" fmla="val 8516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00"/>
                </a:solidFill>
                <a:latin typeface="Arial"/>
              </a:rPr>
              <a:t>Підсніж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724280"/>
            <a:ext cx="3124080" cy="16765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00"/>
                </a:solidFill>
                <a:latin typeface="Times New Roman"/>
              </a:rPr>
              <a:t>Медуниц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1160" y="411480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ff"/>
                </a:solidFill>
                <a:latin typeface="Times New Roman"/>
              </a:rPr>
              <a:t>Ря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152280"/>
            <a:ext cx="3352680" cy="2057400"/>
          </a:xfrm>
          <a:prstGeom prst="wedgeRoundRectCallout">
            <a:avLst>
              <a:gd name="adj1" fmla="val -97537"/>
              <a:gd name="adj2" fmla="val 123921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Горицві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весн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4038840" cy="356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800600"/>
            <a:ext cx="4343400" cy="1905120"/>
          </a:xfrm>
          <a:prstGeom prst="wedgeEllipseCallout">
            <a:avLst>
              <a:gd name="adj1" fmla="val 59356"/>
              <a:gd name="adj2" fmla="val -7783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нду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н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70224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52280" y="228600"/>
            <a:ext cx="4876560" cy="228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При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648320" cy="415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52880" y="4343400"/>
            <a:ext cx="4191120" cy="2362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Пролі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09440" y="5438520"/>
            <a:ext cx="2239920" cy="1087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он-т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533520"/>
            <a:ext cx="4267440" cy="1600200"/>
          </a:xfrm>
          <a:prstGeom prst="cloudCallout">
            <a:avLst>
              <a:gd name="adj1" fmla="val 2305"/>
              <a:gd name="adj2" fmla="val 125495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Кульбаба</a:t>
            </a:r>
            <a:r>
              <a:rPr b="0" lang="uk-UA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867120" y="5320440"/>
            <a:ext cx="2565000" cy="89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року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962520" cy="5334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03848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295280" y="50292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cc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валії </a:t>
            </a:r>
            <a:endParaRPr b="0" lang="en-US" sz="1800" spc="1" strike="noStrike">
              <a:ln w="12600">
                <a:solidFill>
                  <a:srgbClr val="99ffcc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емо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убрав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5556 L 0.00417 -0.38889 E">
                                      <p:cBhvr>
                                        <p:cTn id="145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07:15Z</dcterms:created>
  <dc:creator>мама</dc:creator>
  <dc:description/>
  <dc:language>en-US</dc:language>
  <cp:lastModifiedBy>Люда</cp:lastModifiedBy>
  <dcterms:modified xsi:type="dcterms:W3CDTF">2012-03-23T09:26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