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2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D515-8A6F-4257-A020-C009788E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8B5C-ECD6-4545-BF3C-E9518052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1A76-F1F3-47F1-A089-4D2DDF38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24CF-FED0-4E10-B3B5-947E6110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F888-68F5-4C9B-8045-DEFB4245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3CB9-7011-42F3-B2CF-58335008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66A-1FAF-4758-99F7-A9FC637C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0449-9757-4B1F-9C44-FEEB8191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A712-56ED-4885-B20C-71F3E4D6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800B-B075-4511-B41D-D822C31F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8E67-6FA3-4AA2-9B36-408AF4AA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99DA-2C91-4CD8-9187-66A5FCDC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17A1-5832-4DED-8EF7-8EF5A342C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055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52280" y="1822320"/>
            <a:ext cx="9296280" cy="5035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219320" y="304920"/>
            <a:ext cx="73911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есняні  квіти </a:t>
            </a:r>
            <a:endParaRPr b="1" lang="en-US" sz="5400" spc="1" strike="noStrike">
              <a:ln w="0">
                <a:noFill/>
              </a:ln>
              <a:solidFill>
                <a:srgbClr val="00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477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0" y="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600" spc="-1" strike="noStrike">
                <a:solidFill>
                  <a:srgbClr val="ff3300"/>
                </a:solidFill>
                <a:latin typeface="Arial"/>
              </a:rPr>
              <a:t>Примул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5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753480" cy="7277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3352680"/>
            <a:ext cx="8153280" cy="2057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348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Бережіть природу!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4496040" cy="4267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114800" y="1066680"/>
            <a:ext cx="3505320" cy="3148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57200" y="6248520"/>
            <a:ext cx="815328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67280" y="152280"/>
            <a:ext cx="3105360" cy="3971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2806560"/>
            <a:ext cx="5562720" cy="405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380880"/>
            <a:ext cx="4343400" cy="1905120"/>
          </a:xfrm>
          <a:prstGeom prst="wedgeEllipseCallout">
            <a:avLst>
              <a:gd name="adj1" fmla="val -5921"/>
              <a:gd name="adj2" fmla="val 8516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6600"/>
                </a:solidFill>
                <a:latin typeface="Arial"/>
              </a:rPr>
              <a:t>Підсніж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4724280"/>
            <a:ext cx="3124080" cy="1676520"/>
          </a:xfrm>
          <a:prstGeom prst="ellipse">
            <a:avLst/>
          </a:prstGeom>
          <a:solidFill>
            <a:srgbClr val="00ffcc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6600"/>
                </a:solidFill>
                <a:latin typeface="Times New Roman"/>
              </a:rPr>
              <a:t>Медуниц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391160" y="4114800"/>
            <a:ext cx="7596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ff"/>
                </a:solidFill>
                <a:latin typeface="Times New Roman"/>
              </a:rPr>
              <a:t>Ряс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581640" cy="3733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105520" y="152280"/>
            <a:ext cx="3352680" cy="2057400"/>
          </a:xfrm>
          <a:prstGeom prst="wedgeRoundRectCallout">
            <a:avLst>
              <a:gd name="adj1" fmla="val -97537"/>
              <a:gd name="adj2" fmla="val 123921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8000"/>
                </a:solidFill>
                <a:latin typeface="Times New Roman"/>
              </a:rPr>
              <a:t>Горицві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8000"/>
                </a:solidFill>
                <a:latin typeface="Times New Roman"/>
              </a:rPr>
              <a:t>весня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3124080"/>
            <a:ext cx="4038840" cy="3568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4800600"/>
            <a:ext cx="4343400" cy="1905120"/>
          </a:xfrm>
          <a:prstGeom prst="wedgeEllipseCallout">
            <a:avLst>
              <a:gd name="adj1" fmla="val 59356"/>
              <a:gd name="adj2" fmla="val -7783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рандуш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сня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15238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181480" y="228600"/>
            <a:ext cx="370224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-152280" y="228600"/>
            <a:ext cx="4876560" cy="228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imes New Roman"/>
              </a:rPr>
              <a:t>Приму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4648320" cy="4159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952880" y="4343400"/>
            <a:ext cx="4191120" cy="2362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Проліс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3809880" cy="5257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009440" y="5438520"/>
            <a:ext cx="2239920" cy="10879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Сон-т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419720" y="3429000"/>
            <a:ext cx="4724280" cy="3429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724280" y="533520"/>
            <a:ext cx="4267440" cy="1600200"/>
          </a:xfrm>
          <a:prstGeom prst="cloudCallout">
            <a:avLst>
              <a:gd name="adj1" fmla="val 2305"/>
              <a:gd name="adj2" fmla="val 125495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8000"/>
                </a:solidFill>
                <a:latin typeface="Times New Roman"/>
              </a:rPr>
              <a:t>Кульбаба</a:t>
            </a:r>
            <a:r>
              <a:rPr b="0" lang="uk-UA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03884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3867120" y="5320440"/>
            <a:ext cx="2565000" cy="892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Крокус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indefinite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952880" y="152280"/>
            <a:ext cx="3962520" cy="5334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4038480" cy="5791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295280" y="5029200"/>
            <a:ext cx="76964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3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ffcc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валії </a:t>
            </a:r>
            <a:endParaRPr b="0" lang="en-US" sz="1800" spc="1" strike="noStrike">
              <a:ln w="12600">
                <a:solidFill>
                  <a:srgbClr val="99ffcc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76212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80880" y="3962520"/>
            <a:ext cx="83059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емон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убравн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5556 L 0.00417 -0.38889 E">
                                      <p:cBhvr>
                                        <p:cTn id="145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8:07:15Z</dcterms:created>
  <dc:creator>мама</dc:creator>
  <dc:description/>
  <dc:language>en-US</dc:language>
  <cp:lastModifiedBy>Люда</cp:lastModifiedBy>
  <dcterms:modified xsi:type="dcterms:W3CDTF">2012-03-23T09:26:3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